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B149-322A-4626-916A-5FF7D4314A2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2217-1A0C-4A0E-B6DB-20240CDDF5B3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8027-09CD-4F61-9C99-EFAD2E464323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C8D4-12F7-45BA-9C30-72CFA39D3F1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BEF6-DEDE-4F83-B053-08397AB593D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69AE-A1FF-46B2-AECD-34549DFAA747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7D60-F51A-42A8-B7C9-8A7ED5FD642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3B7C-FD40-4BDC-9552-207693F9E9C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38CF-4DC6-4AEF-A208-C6DD61029D2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D6AA-0C18-41D3-89E8-7FF181F722B6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C768-77C7-4815-BD20-992268013ED9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A7C-4AC1-4AD4-9F24-C4919F8F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D75-F7FF-405F-8835-818346A6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0BE-C33B-46D7-BEFD-FE7A20D3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04B-032F-40BE-8172-D6D5589F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73E3-0282-49EF-9BCD-27386F78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A23A-8180-4219-AFC0-C17C2634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1000-F362-4EA5-88D1-6C9F7FE7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44BE-166B-472F-BCB9-99B1777E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47A9-26BD-41E1-BA8D-2EDE09D6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D449-B376-4E56-AC5C-648B79A6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3559-911E-40FA-A7F1-DEE85017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DE5-51E0-4434-9E08-6F25676A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EEB1-6CE8-4AB4-A804-E1242ECB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F169-E446-422E-93E4-A9D70008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9E2B-B2D0-4219-A881-CBB714E3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BB02-4270-4CDF-A380-FF5D0238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B808-7869-4B28-B703-3298906B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789-2EEB-4858-ACCA-2F9B4CC3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B28-D5E0-4BC5-869D-6EE6704D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B12-7545-424D-B291-C8CEC496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186-F0E8-4CF3-A84B-521107CC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40C-228A-4ECB-83E4-5E51C032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3BDC-4816-4329-8661-53EF1116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738-4A02-4351-8744-89B47F44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BB01-C59B-4664-A38A-4753F99FCD67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F565-70D8-4092-9F88-F1AE65457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A0F7-177A-4A19-9DC9-E73100870CA9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E112-C119-44BD-B753-A34AACD0E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FA43-A9C0-4472-9BC0-1E0F2969C31F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EBE8-625F-4C21-A764-F73516F71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294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Arial"/>
              </a:rPr>
              <a:t>„</a:t>
            </a:r>
            <a:r>
              <a:rPr b="0" lang="hu-HU" sz="4000" spc="-1" strike="noStrike">
                <a:solidFill>
                  <a:srgbClr val="ffcc66"/>
                </a:solidFill>
                <a:latin typeface="Arial"/>
              </a:rPr>
              <a:t>Együtt az áldozatokért”</a:t>
            </a:r>
            <a:br>
              <a:rPr sz="4000"/>
            </a:br>
            <a:br>
              <a:rPr sz="4000"/>
            </a:b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Szakmai konferencia</a:t>
            </a:r>
            <a:br>
              <a:rPr sz="2800"/>
            </a:b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Fehér Gyűrű Egyesület - Weisser Ring Schweiz</a:t>
            </a:r>
            <a:br>
              <a:rPr sz="2800"/>
            </a:b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Balatonfüred, 2012.okt.25-26.</a:t>
            </a:r>
            <a:br>
              <a:rPr sz="4000"/>
            </a:br>
            <a:r>
              <a:rPr b="0" lang="hu-HU" sz="4000" spc="-1" strike="noStrike">
                <a:solidFill>
                  <a:srgbClr val="ff0033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WordArt 11"/>
          <p:cNvSpPr txBox="1"/>
          <p:nvPr/>
        </p:nvSpPr>
        <p:spPr>
          <a:xfrm>
            <a:off x="2843280" y="4508640"/>
            <a:ext cx="38480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Buczkó Erika r. alezrede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0208-AB78-4826-943B-25DD571AC93E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3128-6538-4B52-93E0-DD348FDBD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-1067040"/>
            <a:ext cx="70866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Tény: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210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évtizedek során a rendőrség okkal vagy kényszerből, de számos ponton kapcsolódott be a megelőzés küzdelmeib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nnek ellenére a rendőri megelőzés szerepe nincs helyére téve a magyar bűnmegelőzés feladatrendszerében, hisz a szakmai iránymutatással a kormány által elfogadott Társadalmi bűnmegelőzés nemzeti stratégiája is adós marad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identitászavar érthető (csak a bűnüldözés az „igazi” rendőri munk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Mi a megoldá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2086-AA52-462C-B208-20B2FC0E5AD9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4B5C-1275-4BD1-8D45-BF659AE69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984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ffcc66"/>
                </a:solidFill>
                <a:latin typeface="Arial"/>
              </a:rPr>
              <a:t>Meg akarjátok előzni a bűntetteket?</a:t>
            </a:r>
            <a:br>
              <a:rPr sz="2400"/>
            </a:br>
            <a:r>
              <a:rPr b="0" lang="hu-HU" sz="2400" spc="-1" strike="noStrike">
                <a:solidFill>
                  <a:srgbClr val="ffcc66"/>
                </a:solidFill>
                <a:latin typeface="Arial"/>
              </a:rPr>
              <a:t>Tegyétek, hogy a törvények világosak, egyszerűek legyenek, és hogy a nemzet egész ereje azok védelmére összpontosuljon, s egyetlen része se használtassék fel megsemmisítésükre.</a:t>
            </a:r>
            <a:br>
              <a:rPr sz="2400"/>
            </a:br>
            <a:r>
              <a:rPr b="0" lang="hu-HU" sz="2400" spc="-1" strike="noStrike">
                <a:solidFill>
                  <a:srgbClr val="ffcc66"/>
                </a:solidFill>
                <a:latin typeface="Arial"/>
              </a:rPr>
              <a:t>Tegyétek, hogy a törvények ne annyira az emberek osztályait, mint inkább magukat az embereket szolgálják.</a:t>
            </a:r>
            <a:br>
              <a:rPr sz="2400"/>
            </a:br>
            <a:r>
              <a:rPr b="0" lang="hu-HU" sz="2400" spc="-1" strike="noStrike">
                <a:solidFill>
                  <a:srgbClr val="ffcc66"/>
                </a:solidFill>
                <a:latin typeface="Arial"/>
              </a:rPr>
              <a:t>Tegyétek, hogy az emberek tartsanak tőlük, de csak is tőlük tartsanak.</a:t>
            </a:r>
            <a:br>
              <a:rPr sz="2400"/>
            </a:br>
            <a:r>
              <a:rPr b="0" lang="hu-HU" sz="2400" spc="-1" strike="noStrike">
                <a:solidFill>
                  <a:srgbClr val="ffcc66"/>
                </a:solidFill>
                <a:latin typeface="Arial"/>
              </a:rPr>
              <a:t>A törvényektől való félelem üdvös, de végzetes és melegágya a bűnöknek az embernek embertől való félelme.”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5373360"/>
            <a:ext cx="7846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Cesare Beccaria: A bűnökről és büntetésekről (176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4FC9-446F-4FA0-AB40-7CF55D72D2B4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97C5-C57A-4C03-B557-6022A7DAD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06292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66"/>
                </a:solidFill>
                <a:latin typeface="Arial"/>
              </a:rPr>
              <a:t>A bűnözés ára: avagy bűnüldözés és/ vagy bűnmegelőzés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205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 u="sng">
                <a:solidFill>
                  <a:srgbClr val="ffffff"/>
                </a:solidFill>
                <a:uFillTx/>
                <a:latin typeface="Times New Roman"/>
              </a:rPr>
              <a:t>A bűnözés társadalmi költsége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Nagyságrendben ki nem fejezhető értékek (élet, eszmei értéke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Bűnözés által okozott kár összege: ( eltulajdonított értékek összege+                                                             megszerzés okán keletkezett kár, pl. zárszerkezet feltöré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bűncselekmények felderítésére szakosodott állami apparátus + bűntetés-végrehajtási intézmények működteté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 u="sng">
                <a:solidFill>
                  <a:srgbClr val="ffffff"/>
                </a:solidFill>
                <a:uFillTx/>
                <a:latin typeface="Times New Roman"/>
              </a:rPr>
              <a:t>A</a:t>
            </a:r>
            <a:r>
              <a:rPr b="0" i="1" lang="hu-H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hu-HU" sz="2000" spc="-1" strike="noStrike" u="sng">
                <a:solidFill>
                  <a:srgbClr val="ffffff"/>
                </a:solidFill>
                <a:uFillTx/>
                <a:latin typeface="Times New Roman"/>
              </a:rPr>
              <a:t>bűnözés járulékos költségei:</a:t>
            </a:r>
            <a:r>
              <a:rPr b="1" lang="hu-HU" sz="2000" spc="-1" strike="noStrike" u="sng">
                <a:solidFill>
                  <a:srgbClr val="ffffff"/>
                </a:solidFill>
                <a:uFillTx/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bcs. elkövetése kapcsán az állam, a társadalom vagy magánszemély elmaradt haszna: a rossz közbiztonsági mutatók miatti elmaradt befektetések, beruházások, turizmus hiányából adódó bevételkiesések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sértettek rehabilitációs, ápolási, orvosi. költsége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8AE2-B569-419C-AA92-BE5EF19BFB61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96A5-3BC6-4A78-95E9-EC1F162A6C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Költségek számszerűsítése: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0629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nyomozás, különösen egy bűncselekménytípus költségé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megelőzés költségé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bűnözés ( a biztonság, illetve annak hiányából adódó) költségét csak hozzávetőlegesen lehet megállapítan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BEF8-1EA6-40F6-97E4-BD2041A71516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BB91-D0AD-4BCA-81BE-9D9202A01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744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A kezdetek…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799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örténelem kezdete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ösztönös létfenntartás, természet javaiból szükséglet szerinti részesedés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(minden azé aki megszerzi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Ősközösség kialakulása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az ember rájön, hogy a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hordaszellem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alkalmas az erők egyesítésére az élelem közös megszerzésére.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Új elosztási elvek: 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már nem minden azé aki megszerezte. Fellép az igény az értékek megóvására azoktól akik ezt az elvet nem fogadják el. Körvonalazódnak a gyakorlatban alkalmazható visszatartó módszerek: testi erőszak, majd kirekesztés a közösségből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 (közösségi szankciók a deviáns egyedekkel szemb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agántulajdon megjelenése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munkamegosztás, érték-differenciálódás következő foka.  Megengedetté válik az egyéni gyarapodás. Az igazságos elosztásra,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 magántulajdon védelmére kialakult egy elkülönült erkölcsi gazdasági fórum, az Öregek Tanácsa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mely mint magatartási és életviszonyokat szabályozó testület, megvetette alapját a későbbi korok önállósult igazságszolgáltatási rendszeréne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24E6-3C42-49C0-9BE9-CDAD62B6BCA8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3594-0EC3-4C7A-8A27-BC816FF24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-675000"/>
            <a:ext cx="8134200" cy="22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Tények: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3138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lmúlt évszázadok: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bűnözők kézre kerítése és példás megbüntetése került előtérbe (lásd nyilvános akasztások pl.) azonban a bűnözéstől, mint társadalmat kísérő jelenségtől mégsem sikerült megszabaduln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: a bűnözéssel mint társadalmi konfliktusrendszerrel együtt kell élnün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z újabb bűncselekmények elkövetését csak büntetéssel nem lehet megakadályozni, (Beccaria: „a bűnözés elleni harc legígéretesebb formája a BŰNMEGELŐZÉS”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bűnmegelőzés azonban nem látványosan megtérülő, legkevésbé mérhető tevékenység DE CSAK A TÁRSADALOM BEVONÁSÁVAL VÁLHAT HATÉKONNYÁ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6614-6BB7-47F6-9E0B-B857D98EB576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E52D-51EC-4A4B-B993-9D12121D0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2000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66"/>
                </a:solidFill>
                <a:latin typeface="Arial"/>
              </a:rPr>
              <a:t>„</a:t>
            </a:r>
            <a:r>
              <a:rPr b="1" lang="hu-HU" sz="2800" spc="-1" strike="noStrike">
                <a:solidFill>
                  <a:srgbClr val="ffcc66"/>
                </a:solidFill>
                <a:latin typeface="Arial"/>
              </a:rPr>
              <a:t>Ami megtörtént azt meg nem történtté tenni úgy sem lehet, a jövőben ezeket kell megelőzni” Seneca (kr. után 4-65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49600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űnmegelőz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inden olyan intézkedés és beavatkozás, amelynek célja vagy eredménye a bűnözés mennyiségi csökkentése, az állampolgárok biztonságérzetének minőségi javítása, történjék az a bűnalkalmak csökkentésével, a bűnözést előidéző okok hatásának mérséklésével, vagy a sértetté válás megelőzéséve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EE8C-B5FE-4F84-BE0A-8E132F7D4270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2001-21FB-4145-B7C6-F0E42F1EE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384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hu-HU" sz="2800" spc="-1" strike="noStrike">
                <a:solidFill>
                  <a:srgbClr val="ffcc66"/>
                </a:solidFill>
                <a:latin typeface="Arial"/>
              </a:rPr>
              <a:t>Megoldás:  Differenciált bűnmegelőzési rendszer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524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/ Társadalmi bűnmegelőz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/ Bűnüldöző szervek megelőzési feladatainak meghatározása (Bűnmegelőzési Tv.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,</a:t>
            </a:r>
            <a:r>
              <a:rPr b="1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Rendőrség bűnmegelőzési feladatai: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..végzi a bűncselekmények megelőzését, felderítését (nyom.hat-i jogkörb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..végzi a szab.sértések megelőzését, felderítését (Szab.sért-i hat-i jogkörb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ehát végzi a Rendőrségi Tv. ben meghatározott feladata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űnmegelőzési Szolgálat létrejöt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5FCF-7E42-4231-B13A-48750CB55114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78CE-2FCE-41CC-9940-DE6CDFE6D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1067040"/>
            <a:ext cx="70866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A rendőri megelőzés: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5331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Rendőrségi bűnmegelőzés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: olyan intézkedéssorozat, ami a korábban megismert bűnelkövetési folyamatba beavatkozva, gátolja a bűncselekmény elkövetésének megkezdésé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nnál sikeresebb, minél távolabbi ponton tud beavatkozni a bcs. kialakulásának folyamatáb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Legfontosabb feladat: elemzés, értékelés, tájékoztatás, figyelemfelhívás, az állampolgárok önvédelmi reflexeinek kiváltása, védelem kiépítése, bűnalkalmak csökkentése, jelzésadás intézkedésre jogosult felé (pl:önkormányzat felé: közterület kivilágítatlanság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átum hely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10DF-0EE1-46E8-9983-C13C833A8487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Dia számának hely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9A33-3084-46BE-9EFD-FE90D33AC4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1067040"/>
            <a:ext cx="70866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Arial"/>
              </a:rPr>
              <a:t>A rendőri megelőzés szakvonalai: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216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Család-gyermek-ifjúságvéde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Drogpreven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egelőző vagyon és gazdaságvéde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Áldozattá válás szempontjából kiemelt kockázatú csoportok áldozattá válásának megelőzése, áldozatsegí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özösségi életterek rendjének védel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hérgyűrű2</dc:creator>
  <dc:description/>
  <dc:language>en-US</dc:language>
  <cp:lastModifiedBy>Fehérgyűrű2</cp:lastModifiedBy>
  <dcterms:modified xsi:type="dcterms:W3CDTF">2012-10-19T08:35:51Z</dcterms:modified>
  <cp:revision>185</cp:revision>
  <dc:subject/>
  <dc:title>PowerPoint bemutató</dc:title>
</cp:coreProperties>
</file>