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362E-B616-43FA-8B8A-318747092F4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C282-396A-4711-9AB9-EAFAFA4477A8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0B5E-8AA8-4618-96B2-F7AA365A9A0F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D1CF-DD4A-433B-9D2E-DE9B42A485D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F409-69F4-4028-BAF4-91685B5386D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5897-B17E-4672-8F6A-F59F24BFCAE1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C4B8-2B41-42E0-AA90-49D450E015A7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B0B4-31C8-4C2A-8038-87D7C4683E13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B63D-1B96-4667-8734-0C668F6740E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EA22-6B16-4737-AA26-C23BC07CB29B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2F24-127F-4B97-9F44-37620482A2FE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8F2-FC0E-4848-804B-5D16E0CC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A8A-1049-45F3-8E46-F184C0B2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99D-8B99-4940-ABCA-EC547F3B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F7A-AB3C-4C19-A819-B785E24E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F408-842A-44C3-B42B-E19B16F5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8FFF-C993-4914-9707-61C2FDA6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814E-4406-4C5C-B52B-4C119078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1119-A823-4E0C-85C4-7624872D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3D9A-8384-4021-B8C1-91BE6B8F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8430-2B24-4413-A909-38891777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E030-94BC-4FE8-852D-FCA3D13A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E4F-B7A2-4659-8E86-D67D9F35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6204-7890-407C-A84E-82FD747C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5CCC-65A9-4157-80F7-80952BD8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0CB1-A025-453E-866D-77EBBDF3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1D31-2025-4E74-A888-AA7657E1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5875-C7B9-4634-A4DB-A5D7C3B8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7B3C-76D0-4DE5-9FCD-61F24F64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6F7-1C19-4D48-B9D9-852D374B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3F4-13E3-419B-87E9-F34A00D9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C7D-9CE3-4E78-9675-2C5A4708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34A-B6EB-4ED7-9412-CF724B77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2C15-3D0C-4F62-8B08-B77439D1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8CA-099A-4E8E-B45D-336E7B2E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86FE-63E7-44EA-A752-09161F0C27B0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8FC2-BA4D-43DD-9B73-530BA5041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F2CA-013C-42BD-80A4-F9A31F3CC614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DC34-ED7C-4E63-B6EC-E8610950E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1E03-D080-4A1C-A2E3-7AA96FA5337F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971D-7964-4A99-944C-C72B24320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294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Arial"/>
              </a:rPr>
              <a:t>„</a:t>
            </a:r>
            <a:r>
              <a:rPr b="0" lang="hu-HU" sz="4000" spc="-1" strike="noStrike">
                <a:solidFill>
                  <a:srgbClr val="ffcc66"/>
                </a:solidFill>
                <a:latin typeface="Arial"/>
              </a:rPr>
              <a:t>Együtt az áldozatokért”</a:t>
            </a:r>
            <a:br>
              <a:rPr sz="4000"/>
            </a:br>
            <a:br>
              <a:rPr sz="4000"/>
            </a:b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Szakmai konferencia</a:t>
            </a:r>
            <a:br>
              <a:rPr sz="2800"/>
            </a:b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Fehér Gyűrű Egyesület - Weisser Ring Schweiz</a:t>
            </a:r>
            <a:br>
              <a:rPr sz="2800"/>
            </a:b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Balatonfüred, 2012.okt.25-26.</a:t>
            </a:r>
            <a:br>
              <a:rPr sz="4000"/>
            </a:br>
            <a:r>
              <a:rPr b="0" lang="hu-HU" sz="4000" spc="-1" strike="noStrike">
                <a:solidFill>
                  <a:srgbClr val="ff0033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2843280" y="4508640"/>
            <a:ext cx="3848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uczkó Erika r. alezrede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8319-DE7B-447B-80FA-268F7A2E0786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9730-8D02-4B48-B7E3-2FF913B5A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-1067040"/>
            <a:ext cx="70866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Tény: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210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évtizedek során a rendőrség okkal vagy kényszerből, de számos ponton kapcsolódott be a megelőzés küzdelmeib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nnek ellenére a rendőri megelőzés szerepe nincs helyére téve a magyar bűnmegelőzés feladatrendszerében, hisz a szakmai iránymutatással a kormány által elfogadott Társadalmi bűnmegelőzés nemzeti stratégiája is adós marad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identitászavar érthető (csak a bűnüldözés az „igazi” rendőri munk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Mi a megoldá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F24A-0795-4F0F-A6C2-1C4267014A08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60F3-5FA5-47F4-945C-781742BFA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984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ffcc66"/>
                </a:solidFill>
                <a:latin typeface="Arial"/>
              </a:rPr>
              <a:t>Meg akarjátok előzni a bűntetteket?</a:t>
            </a:r>
            <a:br>
              <a:rPr sz="2400"/>
            </a:br>
            <a:r>
              <a:rPr b="0" lang="hu-HU" sz="2400" spc="-1" strike="noStrike">
                <a:solidFill>
                  <a:srgbClr val="ffcc66"/>
                </a:solidFill>
                <a:latin typeface="Arial"/>
              </a:rPr>
              <a:t>Tegyétek, hogy a törvények világosak, egyszerűek legyenek, és hogy a nemzet egész ereje azok védelmére összpontosuljon, s egyetlen része se használtassék fel megsemmisítésükre.</a:t>
            </a:r>
            <a:br>
              <a:rPr sz="2400"/>
            </a:br>
            <a:r>
              <a:rPr b="0" lang="hu-HU" sz="2400" spc="-1" strike="noStrike">
                <a:solidFill>
                  <a:srgbClr val="ffcc66"/>
                </a:solidFill>
                <a:latin typeface="Arial"/>
              </a:rPr>
              <a:t>Tegyétek, hogy a törvények ne annyira az emberek osztályait, mint inkább magukat az embereket szolgálják.</a:t>
            </a:r>
            <a:br>
              <a:rPr sz="2400"/>
            </a:br>
            <a:r>
              <a:rPr b="0" lang="hu-HU" sz="2400" spc="-1" strike="noStrike">
                <a:solidFill>
                  <a:srgbClr val="ffcc66"/>
                </a:solidFill>
                <a:latin typeface="Arial"/>
              </a:rPr>
              <a:t>Tegyétek, hogy az emberek tartsanak tőlük, de csak is tőlük tartsanak.</a:t>
            </a:r>
            <a:br>
              <a:rPr sz="2400"/>
            </a:br>
            <a:r>
              <a:rPr b="0" lang="hu-HU" sz="2400" spc="-1" strike="noStrike">
                <a:solidFill>
                  <a:srgbClr val="ffcc66"/>
                </a:solidFill>
                <a:latin typeface="Arial"/>
              </a:rPr>
              <a:t>A törvényektől való félelem üdvös, de végzetes és melegágya a bűnöknek az embernek embertől való félelme.”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5373360"/>
            <a:ext cx="7846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Cesare Beccaria: A bűnökről és büntetésekről (176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EB1E-EAA1-456E-B076-7DC54A368E21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133F-D2EB-4DCC-B256-AC2472AA5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06292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66"/>
                </a:solidFill>
                <a:latin typeface="Arial"/>
              </a:rPr>
              <a:t>A bűnözés ára: avagy bűnüldözés és/ vagy bűnmegelőzés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205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 u="sng">
                <a:solidFill>
                  <a:srgbClr val="ffffff"/>
                </a:solidFill>
                <a:uFillTx/>
                <a:latin typeface="Times New Roman"/>
              </a:rPr>
              <a:t>A bűnözés társadalmi költsége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Nagyságrendben ki nem fejezhető értékek (élet, eszmei értéke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Bűnözés által okozott kár összege: ( eltulajdonított értékek összege+                                                             megszerzés okán keletkezett kár, pl. zárszerkezet feltöré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bűncselekmények felderítésére szakosodott állami apparátus + bűntetés-végrehajtási intézmények működteté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 u="sng">
                <a:solidFill>
                  <a:srgbClr val="ffffff"/>
                </a:solidFill>
                <a:uFillTx/>
                <a:latin typeface="Times New Roman"/>
              </a:rPr>
              <a:t>A</a:t>
            </a:r>
            <a:r>
              <a:rPr b="0" i="1" lang="hu-H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hu-HU" sz="2000" spc="-1" strike="noStrike" u="sng">
                <a:solidFill>
                  <a:srgbClr val="ffffff"/>
                </a:solidFill>
                <a:uFillTx/>
                <a:latin typeface="Times New Roman"/>
              </a:rPr>
              <a:t>bűnözés járulékos költségei:</a:t>
            </a:r>
            <a:r>
              <a:rPr b="1" lang="hu-HU" sz="2000" spc="-1" strike="noStrike" u="sng">
                <a:solidFill>
                  <a:srgbClr val="ffffff"/>
                </a:solidFill>
                <a:uFillTx/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bcs. elkövetése kapcsán az állam, a társadalom vagy magánszemély elmaradt haszna: a rossz közbiztonsági mutatók miatti elmaradt befektetések, beruházások, turizmus hiányából adódó bevételkiesések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sértettek rehabilitációs, ápolási, orvosi. költsége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1299-6019-4072-9B93-1DDF335C664C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B6CD-5ECF-4ED3-9A75-0A332989A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Költségek számszerűsítése: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0629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nyomozás, különösen egy bűncselekménytípus költségé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megelőzés költségé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bűnözés ( a biztonság, illetve annak hiányából adódó) költségét csak hozzávetőlegesen lehet megállapítan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8DE5-0018-4FAD-A30C-3F1E05A7EAD5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1424-1F4C-4B5C-86B8-A407312C1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744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A kezdetek…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799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örténelem kezdete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ösztönös létfenntartás, természet javaiból szükséglet szerinti részesedés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(minden azé aki megszerzi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Ősközösség kialakulása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az ember rájön, hogy a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hordaszellem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alkalmas az erők egyesítésére az élelem közös megszerzésére.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Új elosztási elvek: 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már nem minden azé aki megszerezte. Fellép az igény az értékek megóvására azoktól akik ezt az elvet nem fogadják el. Körvonalazódnak a gyakorlatban alkalmazható visszatartó módszerek: testi erőszak, majd kirekesztés a közösségből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 (közösségi szankciók a deviáns egyedekkel szemb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agántulajdon megjelenése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munkamegosztás, érték-differenciálódás következő foka.  Megengedetté válik az egyéni gyarapodás. Az igazságos elosztásra,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 magántulajdon védelmére kialakult egy elkülönült erkölcsi gazdasági fórum, az Öregek Tanácsa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mely mint magatartási és életviszonyokat szabályozó testület, megvetette alapját a későbbi korok önállósult igazságszolgáltatási rendszeréne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75BA-BDB5-4291-814F-CD9966FCE290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C8B2-56A4-4D09-B22B-0E7B7946A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-675000"/>
            <a:ext cx="8134200" cy="22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Tények: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3138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lmúlt évszázadok: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bűnözők kézre kerítése és példás megbüntetése került előtérbe (lásd nyilvános akasztások pl.) azonban a bűnözéstől, mint társadalmat kísérő jelenségtől mégsem sikerült megszabaduln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: a bűnözéssel mint társadalmi konfliktusrendszerrel együtt kell élnün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újabb bűncselekmények elkövetését csak büntetéssel nem lehet megakadályozni, (Beccaria: „a bűnözés elleni harc legígéretesebb formája a BŰNMEGELŐZÉS”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bűnmegelőzés azonban nem látványosan megtérülő, legkevésbé mérhető tevékenység DE CSAK A TÁRSADALOM BEVONÁSÁVAL VÁLHAT HATÉKONNYÁ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61EC-D231-4714-9817-771BDD85C0E0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DE7F-9739-4861-AC35-0622AFF3A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2000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66"/>
                </a:solidFill>
                <a:latin typeface="Arial"/>
              </a:rPr>
              <a:t>„</a:t>
            </a:r>
            <a:r>
              <a:rPr b="1" lang="hu-HU" sz="2800" spc="-1" strike="noStrike">
                <a:solidFill>
                  <a:srgbClr val="ffcc66"/>
                </a:solidFill>
                <a:latin typeface="Arial"/>
              </a:rPr>
              <a:t>Ami megtörtént azt meg nem történtté tenni úgy sem lehet, a jövőben ezeket kell megelőzni” Seneca (kr. után 4-65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49600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űnmegelőz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inden olyan intézkedés és beavatkozás, amelynek célja vagy eredménye a bűnözés mennyiségi csökkentése, az állampolgárok biztonságérzetének minőségi javítása, történjék az a bűnalkalmak csökkentésével, a bűnözést előidéző okok hatásának mérséklésével, vagy a sértetté válás megelőzéséve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D320-082D-472A-B5A3-044ACDD00D5F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E464-C985-4FFD-BAD6-011DBFB9B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384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hu-HU" sz="2800" spc="-1" strike="noStrike">
                <a:solidFill>
                  <a:srgbClr val="ffcc66"/>
                </a:solidFill>
                <a:latin typeface="Arial"/>
              </a:rPr>
              <a:t>Megoldás:  Differenciált bűnmegelőzési rendszer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524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/ Társadalmi bűnmegelőz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/ Bűnüldöző szervek megelőzési feladatainak meghatározása (Bűnmegelőzési Tv.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,</a:t>
            </a:r>
            <a:r>
              <a:rPr b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Rendőrség bűnmegelőzési feladatai: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..végzi a bűncselekmények megelőzését, felderítését (nyom.hat-i jogkörb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..végzi a szab.sértések megelőzését, felderítését (Szab.sért-i hat-i jogkörb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ehát végzi a Rendőrségi Tv. ben meghatározott feladata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űnmegelőzési Szolgálat létrejöt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A2EA-A38B-4B96-8682-65CA9906472D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98D0-9E6D-4E6B-998B-B086D879B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1067040"/>
            <a:ext cx="70866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A rendőri megelőzés: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5331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endőrségi bűnmegelőzés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: olyan intézkedéssorozat, ami a korábban megismert bűnelkövetési folyamatba beavatkozva, gátolja a bűncselekmény elkövetésének megkezdésé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nnál sikeresebb, minél távolabbi ponton tud beavatkozni a bcs. kialakulásának folyamatáb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Legfontosabb feladat: elemzés, értékelés, tájékoztatás, figyelemfelhívás, az állampolgárok önvédelmi reflexeinek kiváltása, védelem kiépítése, bűnalkalmak csökkentése, jelzésadás intézkedésre jogosult felé (pl:önkormányzat felé: közterület kivilágítatlanság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8067-E3E3-4588-A0A4-8E7A40423815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085D-4F7E-4CD2-A6E1-60B1F249E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1067040"/>
            <a:ext cx="70866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A rendőri megelőzés szakvonalai: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216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Család-gyermek-ifjúságvéde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Drogpreven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egelőző vagyon és gazdaságvéde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Áldozattá válás szempontjából kiemelt kockázatú csoportok áldozattá válásának megelőzése, áldozatsegí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özösségi életterek rendjének védel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hérgyűrű2</dc:creator>
  <dc:description/>
  <dc:language>en-US</dc:language>
  <cp:lastModifiedBy>Fehérgyűrű2</cp:lastModifiedBy>
  <dcterms:modified xsi:type="dcterms:W3CDTF">2012-10-19T08:35:51Z</dcterms:modified>
  <cp:revision>185</cp:revision>
  <dc:subject/>
  <dc:title>PowerPoint bemutató</dc:title>
</cp:coreProperties>
</file>