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11FB-3163-403A-89F3-F67869AD375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jeszte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DD2-DF4B-429A-828E-768EF6D64617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D35-1B43-42B4-8074-6E769729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0F7-FA44-4950-9EBC-BA1D68D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705-A03E-4346-BF98-F7B5A584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B35-C16B-458B-A07D-698A174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A96C-370E-47E0-A783-CEDA6CCF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48B4-0ABB-459D-B400-70929C3F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C2F-8668-4323-98F4-A0D65355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9A3-1FF3-4C3B-9994-DA4BED9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161-1978-49C0-BC01-5BC4847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301A-786F-4443-8C67-BF07E85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5B13-E5E3-4866-8F77-FA4CD26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81D-C077-45AE-B9A0-E5DDA6A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C4B5-F5B6-4FBF-BCFC-C926561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D13-DEB1-4B28-9F9F-F4FDF4B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7D1-EEBE-44DF-9B6A-C3C545B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C62F-94D7-41FE-8F84-5A03C7D8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FE6C-A814-42CB-81AB-BBCBB44F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E54-0985-407A-9F8F-1842F500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D9D-19E9-46C9-B9DF-712A309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45C-894F-4E0E-B03A-9A924A0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A76-31C8-413B-8215-0E61156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AE7-64B2-4937-B955-D931E6E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EB8-8529-4C34-86CB-EC62A65E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299-EC52-4F4C-8D5A-35C0474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657E-D676-4114-843E-07EAA764EFC7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6215-EBD7-4019-A0A5-738B77808EDF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A Rendőrség áldozatsegítő tevékenysége, együttműködési lehetőségek az új normatív utasítás 2/2013. (I.31.) tükréb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ácskai Tünde r. alezre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RFK Bűnmegelőzési Osztá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Az új norma kiadásának oka: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szabálysértési tv. (2012. évi II. tv.) hatályba lépése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szabálysértési értékhatár emelkedése (20.000 - 50.000 Ft-ra)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Ást kiterjeszti hatályát a tulajdon elleni szabálysértések áldozataira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A szabálysértések áldozatai számára is megnyílt az út az Ást. támogatási rendszeréhez való hozzáféréshez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Prioritások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unkatársak érzékenyítése, áldozatsegítés össz - rendőri szemléletté tétele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Bűnügyi -bűnmegelőzési-rendészeti terület munkájának, még erőteljesebb összehangolás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Külső és belső kommunikáció erősítése (információ átadása)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Áldozatvédelmi normából adódó feladatok, oktatása területi szint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Áldozatvédelem-áldozatsegítés hazai és nemzetközi tapasztalatainak oktatása, a belügyi tanintézetekb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áldozattá válás megelőzését célzó felhívások, célcsoportokhoz történő eljuttatásának új formái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Együttműködések erősítése áldozatsegítésben érintett állami és civil szervezetekke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Fehér Gyűrű Közhasznú Egyesület - BRF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üttműködés jogi alapja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ársadalmi bme nemzeti stratégiájáról szóló 115/2003. (X.28.) OGY határo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Bűncselekmények áldozatainak segítéséről és állami kárenyhítésről szóló 2005. évi CXXXV. Tv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áldozatsegítő támogatások igénybevételének részletes szabályairól szóló 17/2007. (III.17. IRM rendel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endőrség áldozatsegítő feladatairól szóló 50/2008. (OT 29) ORFK utasít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endőrség áldozatsegítő feladatairól szóló 2/2013. ORFK utasít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ndőrségi feladatválla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akirányítás folytán kiemelt hangsúlyt kapjon az áldozatvédelem, áldozatsegítés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értettek jogainak maradéktalan érvényesül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Áldozatok meghallgatása személyiségi jogaik maradéktalan tiszteletben tartásával történj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szichés sérülések elkerül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Ismételt áldozattá válás kockázatának csökkent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emelt kockázatú csoportok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értettek tájékoztatása – állami, társadalmi szervek lehetősége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alamennyi kapitányság ügyfelek által látogatott helyiségében tájékoztató anyag elhelyezé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gyesület feladatvállalása a rendőrség vonatkozásában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Díjtalan jogsegé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egítség személyes iratok pótlása sorá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okonok, külképviseletek értes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apcsolatfelvétel előseg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ervezetek, intézményekkel való kapcsolatfelvé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állás, szállítás, ékezés, áldozatok számára (tanú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ájékoztatást ad külföldi áldozatsegítő szervezetekrő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földiek másodlagos áldozattá válásának megelőz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en elhelyezett tájékoztató anyagok utánpót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zreműködés az idősek számára rendezett megelőzési programok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dényjellegű megelőzési tájékoztató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i megelőzési kiadványok, filmek elhelyezésében történő közreműkö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i programokon előadások megtar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A Budapesti Rendőr-főkapitányság által terjesztett kiadván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975040" y="1600200"/>
            <a:ext cx="3193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976480" y="1600200"/>
            <a:ext cx="319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Kapcsolati háló felhaszn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Vállalat Gyógyfürdők Z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agyar Szállodaszövetsé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udapesti Fesztivál és Turisztikai Központ Nonprofit Kf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valamennyi áldozatvédelmi refer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V. Kerület kiemelt kezelés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gyéb lehetőségek pályázati kereteken belü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onferenciá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épzések, tréningek (mediáció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matikus csoportfoglalkozások (szakemberek, áldozatok, környezet, életvezetési tanács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2012/29/Eu irányelv a bűncselekmények áldozatainak jogairól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Cél: tudatosítani, hogy a bűncselekmény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ársadalom ellen elkövetett rossz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áldozatok egyéni jogainak megsértés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Fonto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igyelembe kell venni személyes helyzetét, szükséglete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g kell védeni a másodlagos viktimizációtól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akértő módon kell támogat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5" descr="ANd9GcSaDMw162eCyROVVZj-KXxf3r2-o6zZL-IQcpkqKTRuEEf1ruXp"/>
          <p:cNvPicPr/>
          <p:nvPr/>
        </p:nvPicPr>
        <p:blipFill>
          <a:blip r:embed="rId1"/>
          <a:stretch/>
        </p:blipFill>
        <p:spPr>
          <a:xfrm>
            <a:off x="7020000" y="1197000"/>
            <a:ext cx="16192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Áldozatsegítési jogok az új irányelv tükrében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nyanyelv/jelnyelv használatának joga szóban és írásban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zérthető kommunikáció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ísérőt (támogatót) vehessen igényb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inimális kötelező tájékoztatás az első kapcsolatfelvételkor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érítésmentes tolmácsoláshoz és fordítás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üggyel kapcsolatos tájékoztatás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dozatsegítő szolgáltatások igénybevételének jog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Áldozatvédelmi jogok az új irányelv tükrében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Nyomozás sorá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eljelentést követően késedelem nélküli kihallgatá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ihallgatások számának minimalizálás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jogi képviselő, támogató személy jelenlétéhe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orvosi vizsgálatok minimalizálá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Büntetőeljárási jogok az új irányelv tükrében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meghallga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ogorvoslati jog az eljárás megszüntetése esetén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helyreállító igazságszolgálta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ogi segítségnyúj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öltségtérítéshe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vagyontárgyak visszaszolgáltatásá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polgári jogi igény elbírálásához való jo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 u="sng">
                <a:solidFill>
                  <a:srgbClr val="ffffff"/>
                </a:solidFill>
                <a:uFillTx/>
                <a:latin typeface="Arial"/>
              </a:rPr>
              <a:t>Utasítás célj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Valamennyi rendőri intézkedés során kiemelt figyelmet kapjon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a potenciális áldozati kör védelme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a sérelmet szenvedett és környezete védelme;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speciális intézkedések megfogalmazása az áldozati magatartások feltérképezése, bűnelhárító intézkedések megtétele céljábó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pecs-rendorseg-d00016814b52be4428b1c"/>
          <p:cNvPicPr/>
          <p:nvPr/>
        </p:nvPicPr>
        <p:blipFill>
          <a:blip r:embed="rId1"/>
          <a:stretch/>
        </p:blipFill>
        <p:spPr>
          <a:xfrm>
            <a:off x="3564000" y="1268280"/>
            <a:ext cx="21952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 u="sng">
                <a:solidFill>
                  <a:srgbClr val="ffffff"/>
                </a:solidFill>
                <a:uFillTx/>
                <a:latin typeface="Arial"/>
              </a:rPr>
              <a:t>Speciális védelmi szükséglettel bíró áldozatok jogai: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Verdana"/>
              </a:rPr>
              <a:t>Nyomozási szakba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kihallgatás megfelelően átalakított helyiségben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kihallgatás erre kiképzett szakember által, mindig egyazon személy legyen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nemi erkölcs elleni cselekménynél azonos nemű legyen a kihallgató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Az áldozattá válás megelőzése</a:t>
            </a:r>
            <a:br>
              <a:rPr sz="3100"/>
            </a:br>
            <a:r>
              <a:rPr b="1" lang="hu-HU" sz="3100" spc="-1" strike="noStrike">
                <a:solidFill>
                  <a:srgbClr val="ffffff"/>
                </a:solidFill>
                <a:latin typeface="Arial"/>
              </a:rPr>
              <a:t>- áldozatvédelmi referensek -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zés-értékelés: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jellemző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i magata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okat, a bűncselek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k 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rej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 se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ő okokat, 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ket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zke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 terv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unkakapcsol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nyomozati, vizs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ati, ren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ti, elemző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elő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ül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zke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 tervek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ozt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aktu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is bű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yi helyzetről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 el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i 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dok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ájékoztató anyagok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pcsolatta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lami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kor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zati, civil szervezetekkel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e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elő jele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 az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delem helyz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ől, az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i jogo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ől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Az áldozatsegítés rendőri feladatai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odlagos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megelő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;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 t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kozta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nfor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gyakorlati 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a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ok sze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yi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i, adat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delmi, b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tető el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i jogainak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e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ben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ny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j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datok 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tan keze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, iratmegisme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felvi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o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n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, pol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i jogi i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 előterjesz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,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zre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el, jogorvoslat lehető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e, anyanyelv haszn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ata, jelen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i jog, 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delemhez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jog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lehető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e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figyelmezte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gazo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ki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ok meghallga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a, panaszfel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el kul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t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ek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t,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vel, erre a c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ra kiala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ott helyi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b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nnak vizs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ata, hogy 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yek alkalmasak lehetnek-e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enyh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i el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megin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8:53:51Z</dcterms:created>
  <dc:creator>BRFK</dc:creator>
  <dc:description/>
  <dc:language>en-US</dc:language>
  <cp:lastModifiedBy>Roxi</cp:lastModifiedBy>
  <dcterms:modified xsi:type="dcterms:W3CDTF">2013-08-15T05:31:51Z</dcterms:modified>
  <cp:revision>12</cp:revision>
  <dc:subject/>
  <dc:title>A Rendőrség áldozatsegítő tevékenysége, együttműködési lehetőségek az új normatív utasítás 2/2013. (I.31.) tükrében</dc:title>
</cp:coreProperties>
</file>