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F1F-467C-4A8C-AE16-E387D78E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274-603C-4661-B2C0-594E430D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235-46BF-4826-8DFE-BEE351A8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7ED-7A9E-473E-999C-0EA82D14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BE27-C16C-4BDB-8E4D-3591496D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8BAB-6CC3-4A37-8199-38641278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49C7-4C9E-4C49-9D25-76F6F252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B9A8-B776-4590-AAF7-FFCBE52F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DA9-DF40-442C-8F67-61542E4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C56-E278-4168-834A-6CEF5CF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864B-13A9-4DB4-8AED-ED5D7E6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EB4-6C7B-4D94-9A48-77594CCF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640A-DCC9-4548-98E1-215A71A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89C2-F1CF-4A0D-ACE8-6EFC16D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04E6-64BF-40E5-82F6-0C0E22B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A4E-3E14-4BC2-8F00-191EEF97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A0E-1607-4547-957D-C1987975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A351-368E-4DDB-AD0C-BBDD9F1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9697-2D8D-45AB-8528-4139D02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7F12-9575-40EE-A6F9-901F50B1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BDBC-4713-46AD-8E44-BD1436E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8607-8942-4F8D-BE3F-A401DD5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9E2-4E9F-49A0-8F14-B028F4C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9B36-D265-476B-A840-1CEB88B1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E954-E801-40C3-B65A-3FA620F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5FE1-305A-4CF5-A213-A79F6D8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9B7C-3CD4-4E72-A9F1-A16A166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8BB6-3EC6-4118-B9D4-A40ED902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4041-34CD-4D95-82D5-09696201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1F4E-9B17-432E-B282-2B44EA6E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08075-6605-4D34-A4CF-61942575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8208-6D9F-4C32-AA87-9C676D0A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9550-0038-46CC-A229-B91F35B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526-EEDF-4E3A-88A4-7728336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287B-8DD1-4C32-8102-72913CF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C88E-4179-410B-A32B-3796FFC0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3F20-774D-4C2C-AE24-A6FF5C5B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8132-50AA-45A9-BFEA-21B8356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DAFC-D9C3-4101-9120-87BB36D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597E-AAC5-4FA8-B0CD-B2CF80A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5F80-03F0-421F-B08B-FDCCDB7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1F56-1872-43D7-9237-27A673C0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4705-909C-4554-8669-BD670D9D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6440-98F7-469C-9580-8D6D3F3E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DEE-B978-4F7C-940D-17703916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0CFE-FC3C-49F4-9521-F2A534AA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E802-AFD9-40BC-9405-3E3E842B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CF98-361C-47AC-AAFD-61D6FBA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D71C-86D6-49DB-8E8E-A2E7BB3C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5339-44B0-4236-A1EB-9DAF15E3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BF7E-9600-4D84-AFF8-AF8317D4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7613-5247-4853-9078-3BE0EC9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70B8-BDE9-4D06-86F0-73D83E6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D244-CB4B-441E-B434-AEC88B86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43F3F-980F-4F70-8C6C-DA2201CD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3F9-248B-4B09-AB27-52F2C084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6DCF9-5F11-4480-BC16-DF178503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A0E4-E616-481B-95D0-A80AF597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8166-065B-4A16-9F03-DAC10D8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DA7C-E35A-4B1C-AA40-19F04591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7CF0-F2D1-4978-8EBE-7CEC358E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DF285-98D8-46F0-AE7F-62F182DA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7AAF-5E25-41D3-9FC6-CF5C001B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59FC-C90B-4163-A528-C69CC63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D83F-75EB-4AB7-B44F-CED0591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D3A3-995C-4BB5-ACCE-7E1B833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21C-E507-40F2-B198-360E40F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F73F1-FECA-4974-AFA7-5CED8975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29015-6C91-4DC0-B8AB-4D3D529C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F86C-E5B2-479B-A771-7AFC907E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0CE13-BB97-4700-8A7C-2A95BB64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0374-9515-4D55-8FBE-5541414B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3848-AA21-4224-9FE6-55526887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915EF-54A3-47EE-8FEA-0E19490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4E85-382F-4F69-9593-844AF4B9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AABD-8EF4-446A-95B8-F33915DF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55FD-2A9E-438B-B653-CF24E9F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A01-959D-4118-A4E5-7FBABCDC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1F5C5-D990-40D6-BA88-BAA758F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9EEEF-8727-4946-BC21-B19B221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1A27-96F6-490B-B708-F240283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CE02-C41E-4852-83BC-931BB393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BA427-4A72-4076-B87B-8372353B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831-E8E8-42A3-8993-C19517C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ö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E5DC-0992-436A-B1E5-7A8DEA5CBF8C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ö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lipszis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lipszis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lipszis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2CE-22A1-433D-852C-40BF7C540142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églalap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églalap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lipszis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lipszis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lipszis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3A0E-18A9-40C9-BC84-FC6EFBDFA856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2B9-DD1E-4E44-BA77-7D5F00574877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églalap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églalap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EF4-0AA7-40BF-93B9-EF12DC94929D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C19-1DC8-4553-80EB-4B97CCC67443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églalap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Téglalap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olyamatábra: Feldolgozá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lyamatábra: Feldolgozá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0B7-069F-4CDE-9D86-682816D7FD94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071720" y="1196640"/>
            <a:ext cx="7767360" cy="343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BALATONI KÖZBIZTONSÁGI KOORDINÁCIÓS BIZOTTSÁ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201</a:t>
            </a:r>
            <a:r>
              <a:rPr b="0" lang="hu-HU" sz="23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. ÉVI TURISZTIKAI SZEZ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NYITÓ ÉRTEKEZL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VELENCE, 201</a:t>
            </a:r>
            <a:r>
              <a:rPr b="0" lang="hu-HU" sz="18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. MÁJUS 13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2214720" y="4797360"/>
            <a:ext cx="5333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071720" y="1196640"/>
            <a:ext cx="7767360" cy="343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BALATONI KÖZBIZTONSÁGI KOORDINÁCIÓS BIZOTTSÁ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201</a:t>
            </a:r>
            <a:r>
              <a:rPr b="0" lang="hu-HU" sz="24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. ÉVI TURISZTIKAI SZEZ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NYITÓ ÉRTEKEZL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VELENCE, 201</a:t>
            </a:r>
            <a:r>
              <a:rPr b="0" lang="hu-HU" sz="18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. MÁJUS 13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2214720" y="4797360"/>
            <a:ext cx="5333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Tartalom helye 3" descr="balaton1.jpg"/>
          <p:cNvPicPr/>
          <p:nvPr/>
        </p:nvPicPr>
        <p:blipFill>
          <a:blip r:embed="rId1"/>
          <a:stretch/>
        </p:blipFill>
        <p:spPr>
          <a:xfrm>
            <a:off x="1143000" y="4214880"/>
            <a:ext cx="4208400" cy="2214360"/>
          </a:xfrm>
          <a:prstGeom prst="rect">
            <a:avLst/>
          </a:prstGeom>
          <a:ln w="0">
            <a:noFill/>
          </a:ln>
        </p:spPr>
      </p:pic>
      <p:pic>
        <p:nvPicPr>
          <p:cNvPr id="323" name="Kép 9" descr="Balaton2.jpg"/>
          <p:cNvPicPr/>
          <p:nvPr/>
        </p:nvPicPr>
        <p:blipFill>
          <a:blip r:embed="rId2"/>
          <a:stretch/>
        </p:blipFill>
        <p:spPr>
          <a:xfrm>
            <a:off x="5500800" y="3500280"/>
            <a:ext cx="3327120" cy="2214720"/>
          </a:xfrm>
          <a:prstGeom prst="rect">
            <a:avLst/>
          </a:prstGeom>
          <a:ln w="0">
            <a:noFill/>
          </a:ln>
        </p:spPr>
      </p:pic>
      <p:pic>
        <p:nvPicPr>
          <p:cNvPr id="324" name="Kép 10" descr="veleveito.jpg"/>
          <p:cNvPicPr/>
          <p:nvPr/>
        </p:nvPicPr>
        <p:blipFill>
          <a:blip r:embed="rId3"/>
          <a:stretch/>
        </p:blipFill>
        <p:spPr>
          <a:xfrm>
            <a:off x="1214280" y="164304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325" name="Kép 11" descr="Velencei-to_este.jpg"/>
          <p:cNvPicPr/>
          <p:nvPr/>
        </p:nvPicPr>
        <p:blipFill>
          <a:blip r:embed="rId4"/>
          <a:stretch/>
        </p:blipFill>
        <p:spPr>
          <a:xfrm>
            <a:off x="5000760" y="42876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KIEMELT TURISZTIKAI TÉRSÉGEK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560" y="2000160"/>
            <a:ext cx="74977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alaton és térsé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Velencei-tó és térsé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özös kapcsolódási pont a Budapestről való megközelíthetőségében az M7-es autópálya és 7-es számú főútvonal igénybevéte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Hétvégi időszakban extrém terhelés a megközelítési útvonalak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Tartalom helye 3" descr=""/>
          <p:cNvPicPr/>
          <p:nvPr/>
        </p:nvPicPr>
        <p:blipFill>
          <a:blip r:embed="rId1"/>
          <a:stretch/>
        </p:blipFill>
        <p:spPr>
          <a:xfrm>
            <a:off x="993600" y="682560"/>
            <a:ext cx="79488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BALATONI KÖZBIZTONSÁGI KOORDINÁCIÓS BIZOTTSÁG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56840" y="17856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Működése 2015. június 01-től szeptember 15-ig tartó időszakb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jér, Somogy, Veszprém és Zala Megyei Rendőr-főkapitányság állományából kijelölt koordinátoro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jér, Somogy, Veszprém és Zala Megyei Polgárőr Szövetség koordinátorainak bevonásáv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űnügyi, közbiztonsági, bűnmegelőzési, sajtószolgálati munkatársak részvéte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572314"/>
                </a:solidFill>
                <a:latin typeface="Gill Sans MT"/>
              </a:rPr>
              <a:t>A bizottság működésének célja</a:t>
            </a:r>
            <a:br>
              <a:rPr sz="23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özbiztonság fenntartá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Szubjektív közbiztonságérzet növelé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özlekedésbiztonság növelé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Vízbiztonság fenntartá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űnmegelőzé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Sajtókommunikáci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Tájékoztató szere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Rendezvénybiztosítá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MEGERŐSÍTŐ ERŐK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28480" y="1987200"/>
            <a:ext cx="7497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észenléti Rendőrség állományának vezénylé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Somogy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54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Veszprém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36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Zala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18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jér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18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Megyén belüli belső átcsoportosítá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Rendvédelmi képzésben résztvevő állomány bevonása, kerékpáros szolgál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Továbbá lovas, kutyás és helikopteres támogatá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askerville Old Fa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Jobbra nyíl 3"/>
          <p:cNvSpPr/>
          <p:nvPr/>
        </p:nvSpPr>
        <p:spPr>
          <a:xfrm>
            <a:off x="2071800" y="25718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Jobbra nyíl 4"/>
          <p:cNvSpPr/>
          <p:nvPr/>
        </p:nvSpPr>
        <p:spPr>
          <a:xfrm>
            <a:off x="2071800" y="30002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Jobbra nyíl 5"/>
          <p:cNvSpPr/>
          <p:nvPr/>
        </p:nvSpPr>
        <p:spPr>
          <a:xfrm>
            <a:off x="2071800" y="342900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Jobbra nyíl 6"/>
          <p:cNvSpPr/>
          <p:nvPr/>
        </p:nvSpPr>
        <p:spPr>
          <a:xfrm>
            <a:off x="2071800" y="385776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EGYÜTTMŰKÖDÉS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99760" y="17856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Polgárőrsé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Nemzeti Bűnmegelőzési Taná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ormányhivatal szakigazgatási szerve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Nemzeti Adó- és Vámhiva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evándorlási és Állampolgársági Hiva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atasztrófavédel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hér Gyűrű Áldozatsegítő Közhasznú Egyesül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Civilszervezete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églalap 4"/>
          <p:cNvSpPr/>
          <p:nvPr/>
        </p:nvSpPr>
        <p:spPr>
          <a:xfrm>
            <a:off x="19080" y="17640"/>
            <a:ext cx="8874000" cy="68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Kép 5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2529000"/>
          </a:xfrm>
          <a:prstGeom prst="rect">
            <a:avLst/>
          </a:prstGeom>
          <a:ln w="0">
            <a:noFill/>
          </a:ln>
        </p:spPr>
      </p:pic>
      <p:pic>
        <p:nvPicPr>
          <p:cNvPr id="344" name="Kép 7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299280" cy="9452160"/>
          </a:xfrm>
          <a:prstGeom prst="rect">
            <a:avLst/>
          </a:prstGeom>
          <a:ln w="0">
            <a:noFill/>
          </a:ln>
        </p:spPr>
      </p:pic>
      <p:pic>
        <p:nvPicPr>
          <p:cNvPr id="345" name="Kép 8" descr=""/>
          <p:cNvPicPr/>
          <p:nvPr/>
        </p:nvPicPr>
        <p:blipFill>
          <a:blip r:embed="rId3"/>
          <a:stretch/>
        </p:blipFill>
        <p:spPr>
          <a:xfrm>
            <a:off x="2664000" y="-119160"/>
            <a:ext cx="370836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14:52:58Z</dcterms:created>
  <dc:creator>FEJTAKTIKAIHAZ</dc:creator>
  <dc:description/>
  <dc:language>en-US</dc:language>
  <cp:lastModifiedBy>FMRFK</cp:lastModifiedBy>
  <dcterms:modified xsi:type="dcterms:W3CDTF">2015-05-13T05:32:10Z</dcterms:modified>
  <cp:revision>60</cp:revision>
  <dc:subject/>
  <dc:title>1. dia</dc:title>
</cp:coreProperties>
</file>