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161-7753-4DCE-8BFA-0B600A36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C57-75CC-401E-A859-9369358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74F-5C2F-498E-BBDD-3ABE92E9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C03-F3FC-4AE8-980D-FA690437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B6D-8FDD-40E3-A82C-9490540A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78D-6497-49CD-838E-2B84386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F13C-BAC2-4939-8237-3C84C91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E69-C2E4-495A-B038-79BC0FB7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F29-748E-4604-9716-674FFCC8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991-5C1B-4EE7-864B-62052C5E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1C8-E1C0-45F0-97AE-2F890E10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100-7E3E-4A13-B205-CE5DA11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C77-38E9-48FD-BB0C-28FEEBB6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81A-92B2-4EA5-B67E-4ED4E77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8A6-5418-41AE-9C18-9F8DDCE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25F-04CE-43B7-8308-57E497BB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A007-D4C8-4172-865E-D22B1C93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1E3A-5DB3-4ECC-AA65-492B2212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6B78-F5DF-4B98-96C6-2AC9B10E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FAD8-C9E9-4547-9E02-E162F1B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9F79-029C-44B3-8A5C-A40C58E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7226-924F-46E5-883D-6FCB0A0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882-4127-4B87-A7AF-14DC103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8069-DD64-451C-ADFD-A7AD8733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AA8D-543E-43B7-A91C-169B2BA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0EB-2DD4-4AD8-9492-5016E2E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CDBE-AD39-49EC-8052-C272627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2AF7-7E3B-492E-B75F-D96C55B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782D-14DC-4137-A634-AEA762AC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1B00-CBE1-4BC1-AD91-4B77CC10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B643-A0DC-44DE-8DDF-FD599AB7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0B3E-EF56-4415-B542-0162CE3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F46F-A7AC-4161-9FED-44BE6660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410-622F-4071-A4AF-7D2C0B8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FB6F-4179-4424-A519-26DD885C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447E-8AF4-450D-A773-CE32553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AB34-FC70-46DA-8164-8485CB1A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B777-C3AE-4CBE-94A0-62B4701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730F-C68A-4161-8F51-A55A117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7025-92DB-4FB8-AD2E-16F2A1E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6D79-0CAA-4F5A-9932-37162241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E487-D10A-4DD6-8344-09E95F8A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312F-1E45-482A-B478-4D00FB25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1C97-6158-4268-8377-22D8622F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59B-2F48-417E-9243-4E660EF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443A-5795-496B-A4D2-8C5B6E5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6E9E-C6F2-4F53-AEE3-3991C33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0C8F-FB12-4CCC-89E8-23FF4DC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C227-2F82-4DE0-9A9D-FABEB9A6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8B88-FD82-4000-A5DF-8E017B6B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2EFB-A4F9-4B41-8DD8-DDA9AB4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1FF6-73C0-4DAF-8A4C-C9DD873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2F8C6-FFC9-496F-A882-14DE583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4E8D-820F-40C2-8C49-9FC5E478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11EB-C136-4BFC-A616-7CC41CD0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124-9263-4E76-9C0B-39F0D8E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F134-B590-4AE8-93EA-0CFDA3E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B79B-FC2A-4605-BD93-7DE7F5F7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2D63-D841-4E3F-AE51-8154805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6BB5-8B21-4C5A-A219-BE1731D4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75617-48B1-486F-931D-FFEFE52C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FE70-4196-4A2F-AAAC-4987DAA5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7AB7-AC4F-40DD-B801-56C4B14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56CCB-305C-4B39-8D14-7812BC6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7CBF-CB2C-4FA4-8F32-CBE9DB6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B1B4-AD73-4654-A6C6-B7C4C10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80D-8771-494C-9E24-13C84F7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865B-72F3-4F3F-9F12-5D48F45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AA0E-14E5-439A-92F3-6B6BD18D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6CEC-0805-4BD1-9042-A08F3AFB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910A-BED7-4179-8528-57183A0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10C16-26E6-4333-BF7B-A48AAF49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2F9F-CAE6-4223-B67E-DC4E1DAD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C49C-039C-47C3-B87D-13E54BE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5E28-0449-4711-9255-C186745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A803-40BD-46C3-803D-53B4FAE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091D-FD50-4455-A207-B958F51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CEB-25D8-4BA8-9AB3-1A098F5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3D3BA-BEE9-4D13-8031-E99D5F8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AC6A-8D17-4666-8274-5252690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BBA1-5180-48D7-B35C-E1A5502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944D-894C-4714-BE90-5072A4FE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06C2-A373-40FE-A885-616FD785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BE1-9A4E-40F2-96B5-C0EED73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D767-502F-41B2-8BAB-73EA9D1ECDD1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zis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zis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zis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D92-30E8-460E-8CEC-9FE8EC3F7F74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églalap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zis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zis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zis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E28-DC5B-4D07-AF18-77DB055DA2BE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B6BD-812A-42F6-B279-D8A277A920B8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églalap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églalap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929-1062-4652-9BBD-40D5DF109341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121F-72F9-45EF-A075-3326448E649C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églalap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Téglalap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olyamatábra: Feldolgozá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lyamatábra: Feldolgozá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668-33C2-49EC-BC7C-FDF8E4C99CFA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071720" y="1196640"/>
            <a:ext cx="7767360" cy="343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BALATONI KÖZBIZTONSÁGI KOORDINÁCIÓS BIZOTTSÁ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201</a:t>
            </a:r>
            <a:r>
              <a:rPr b="0" lang="hu-HU" sz="23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. ÉVI TURISZTIKAI SZEZ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NYITÓ ÉRTEKEZ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VELENCE, 201</a:t>
            </a:r>
            <a:r>
              <a:rPr b="0" lang="hu-HU" sz="18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. MÁJUS 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2214720" y="4797360"/>
            <a:ext cx="5333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071720" y="1196640"/>
            <a:ext cx="7767360" cy="343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BALATONI KÖZBIZTONSÁGI KOORDINÁCIÓS BIZOTTSÁ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201</a:t>
            </a:r>
            <a:r>
              <a:rPr b="0" lang="hu-HU" sz="24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600" spc="-1" strike="noStrike">
                <a:solidFill>
                  <a:srgbClr val="320e04"/>
                </a:solidFill>
                <a:latin typeface="Baskerville Old Face"/>
              </a:rPr>
              <a:t>. ÉVI TURISZTIKAI SZEZ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NYITÓ ÉRTEKEZL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VELENCE, 201</a:t>
            </a:r>
            <a:r>
              <a:rPr b="0" lang="hu-HU" sz="1800" spc="-1" strike="noStrike">
                <a:solidFill>
                  <a:srgbClr val="320e04"/>
                </a:solidFill>
                <a:latin typeface="Adobe Kaiti Std R"/>
                <a:ea typeface="Adobe Kaiti Std R"/>
              </a:rPr>
              <a:t>5</a:t>
            </a:r>
            <a:r>
              <a:rPr b="0" lang="hu-HU" sz="2000" spc="-1" strike="noStrike">
                <a:solidFill>
                  <a:srgbClr val="320e04"/>
                </a:solidFill>
                <a:latin typeface="Baskerville Old Face"/>
              </a:rPr>
              <a:t>. MÁJUS 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2214720" y="4797360"/>
            <a:ext cx="5333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Tartalom helye 3" descr="balaton1.jpg"/>
          <p:cNvPicPr/>
          <p:nvPr/>
        </p:nvPicPr>
        <p:blipFill>
          <a:blip r:embed="rId1"/>
          <a:stretch/>
        </p:blipFill>
        <p:spPr>
          <a:xfrm>
            <a:off x="1143000" y="4214880"/>
            <a:ext cx="4208400" cy="2214360"/>
          </a:xfrm>
          <a:prstGeom prst="rect">
            <a:avLst/>
          </a:prstGeom>
          <a:ln w="0">
            <a:noFill/>
          </a:ln>
        </p:spPr>
      </p:pic>
      <p:pic>
        <p:nvPicPr>
          <p:cNvPr id="323" name="Kép 9" descr="Balaton2.jpg"/>
          <p:cNvPicPr/>
          <p:nvPr/>
        </p:nvPicPr>
        <p:blipFill>
          <a:blip r:embed="rId2"/>
          <a:stretch/>
        </p:blipFill>
        <p:spPr>
          <a:xfrm>
            <a:off x="5500800" y="3500280"/>
            <a:ext cx="3327120" cy="2214720"/>
          </a:xfrm>
          <a:prstGeom prst="rect">
            <a:avLst/>
          </a:prstGeom>
          <a:ln w="0">
            <a:noFill/>
          </a:ln>
        </p:spPr>
      </p:pic>
      <p:pic>
        <p:nvPicPr>
          <p:cNvPr id="324" name="Kép 10" descr="veleveito.jpg"/>
          <p:cNvPicPr/>
          <p:nvPr/>
        </p:nvPicPr>
        <p:blipFill>
          <a:blip r:embed="rId3"/>
          <a:stretch/>
        </p:blipFill>
        <p:spPr>
          <a:xfrm>
            <a:off x="1214280" y="16430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325" name="Kép 11" descr="Velencei-to_este.jpg"/>
          <p:cNvPicPr/>
          <p:nvPr/>
        </p:nvPicPr>
        <p:blipFill>
          <a:blip r:embed="rId4"/>
          <a:stretch/>
        </p:blipFill>
        <p:spPr>
          <a:xfrm>
            <a:off x="5000760" y="42876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KIEMELT TURISZTIKAI TÉRSÉGEK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560" y="2000160"/>
            <a:ext cx="74977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alaton és térsé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elencei-tó és térsé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ös kapcsolódási pont a Budapestről való megközelíthetőségében az M7-es autópálya és 7-es számú főútvonal igénybevéte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Hétvégi időszakban extrém terhelés a megközelítési útvonalak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Tartalom helye 3" descr=""/>
          <p:cNvPicPr/>
          <p:nvPr/>
        </p:nvPicPr>
        <p:blipFill>
          <a:blip r:embed="rId1"/>
          <a:stretch/>
        </p:blipFill>
        <p:spPr>
          <a:xfrm>
            <a:off x="993600" y="682560"/>
            <a:ext cx="79488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BALATONI KÖZBIZTONSÁGI KOORDINÁCIÓS BIZOTTSÁG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56840" y="17856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Működése 2015. június 01-től szeptember 15-ig tartó időszakb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, Somogy, Veszprém és Zala Megyei Rendőr-főkapitányság állományából kijelölt koordinátoro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, Somogy, Veszprém és Zala Megyei Polgárőr Szövetség koordinátorainak bevonásáv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űnügyi, közbiztonsági, bűnmegelőzési, sajtószolgálati munkatársak részvéte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572314"/>
                </a:solidFill>
                <a:latin typeface="Gill Sans MT"/>
              </a:rPr>
              <a:t>A bizottság működésének célja</a:t>
            </a:r>
            <a:br>
              <a:rPr sz="23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biztonság fenntartá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zubjektív közbiztonságérzet növe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özlekedésbiztonság növe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ízbiztonság fenntartá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űnmegelőzé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ajtókommunikáci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Tájékoztató szere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Rendezvénybiztosí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MEGERŐSÍTŐ ERŐK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28480" y="1987200"/>
            <a:ext cx="7497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észenléti Rendőrség állományának vezénylé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Somogy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54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Veszprém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36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Zala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18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jér MRFK 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18 fő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Megyén belüli belső átcsoportosí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Rendvédelmi képzésben résztvevő állomány bevonása, kerékpáros szolgál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Továbbá lovas, kutyás és helikopteres támogatá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askerville Old Fa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Jobbra nyíl 3"/>
          <p:cNvSpPr/>
          <p:nvPr/>
        </p:nvSpPr>
        <p:spPr>
          <a:xfrm>
            <a:off x="2071800" y="25718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Jobbra nyíl 4"/>
          <p:cNvSpPr/>
          <p:nvPr/>
        </p:nvSpPr>
        <p:spPr>
          <a:xfrm>
            <a:off x="2071800" y="30002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Jobbra nyíl 5"/>
          <p:cNvSpPr/>
          <p:nvPr/>
        </p:nvSpPr>
        <p:spPr>
          <a:xfrm>
            <a:off x="2071800" y="342900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Jobbra nyíl 6"/>
          <p:cNvSpPr/>
          <p:nvPr/>
        </p:nvSpPr>
        <p:spPr>
          <a:xfrm>
            <a:off x="2071800" y="38577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572314"/>
                </a:solidFill>
                <a:latin typeface="Baskerville Old Face"/>
              </a:rPr>
              <a:t>EGYÜTTMŰKÖDÉS</a:t>
            </a: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99760" y="17856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Polgárőrsé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Nemzeti Bűnmegelőzési Taná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ormányhivatal szakigazgatási szerve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Nemzeti Adó- és Vámhiva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Bevándorlási és Állampolgársági Hiva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Katasztrófavédel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Fehér Gyűrű Áldozatsegítő Közhasznú Egyesül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Baskerville Old Face"/>
              </a:rPr>
              <a:t>Civilszervezete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églalap 4"/>
          <p:cNvSpPr/>
          <p:nvPr/>
        </p:nvSpPr>
        <p:spPr>
          <a:xfrm>
            <a:off x="19080" y="17640"/>
            <a:ext cx="8874000" cy="68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Kép 5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2529000"/>
          </a:xfrm>
          <a:prstGeom prst="rect">
            <a:avLst/>
          </a:prstGeom>
          <a:ln w="0">
            <a:noFill/>
          </a:ln>
        </p:spPr>
      </p:pic>
      <p:pic>
        <p:nvPicPr>
          <p:cNvPr id="344" name="Kép 7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299280" cy="9452160"/>
          </a:xfrm>
          <a:prstGeom prst="rect">
            <a:avLst/>
          </a:prstGeom>
          <a:ln w="0">
            <a:noFill/>
          </a:ln>
        </p:spPr>
      </p:pic>
      <p:pic>
        <p:nvPicPr>
          <p:cNvPr id="345" name="Kép 8" descr=""/>
          <p:cNvPicPr/>
          <p:nvPr/>
        </p:nvPicPr>
        <p:blipFill>
          <a:blip r:embed="rId3"/>
          <a:stretch/>
        </p:blipFill>
        <p:spPr>
          <a:xfrm>
            <a:off x="2664000" y="-119160"/>
            <a:ext cx="370836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4:52:58Z</dcterms:created>
  <dc:creator>FEJTAKTIKAIHAZ</dc:creator>
  <dc:description/>
  <dc:language>en-US</dc:language>
  <cp:lastModifiedBy>FMRFK</cp:lastModifiedBy>
  <dcterms:modified xsi:type="dcterms:W3CDTF">2015-05-13T05:32:10Z</dcterms:modified>
  <cp:revision>60</cp:revision>
  <dc:subject/>
  <dc:title>1. dia</dc:title>
</cp:coreProperties>
</file>