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56F0-88AB-4D78-B572-A91BC001098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BAF8-925C-40C4-9A7C-D546E5314B0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agyary Program: A jó állam fejlesztési koncepción belül indult kormányzati program a közigazgatás, elsősorban a központi közigazgatás, az államigazgatás fejlesztését céloz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10 </a:t>
            </a:r>
            <a:r>
              <a:rPr b="0" lang="hu-H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649 db közigazgatási szer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11 </a:t>
            </a:r>
            <a:r>
              <a:rPr b="0" lang="hu-H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318 db közigazgatási szer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314B-D956-4E8C-9619-0FCE89C3B52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végrehajtá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15. március 1-jétől az Igazságügyi Hivatal ellenőrzi a végrehajtók működését, ügyvitelét és pénzkezelését. A végrehajtókkal, végrehajtó-helyettesekkel és végrehajtójelöltekkel kapcsolatos panaszügyek intézését a bírósági végrehajtásról szóló 1994. évi LIII. törvény rendelkezése alapján az Igazságügyi Hivatal felügye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Családi Csődvédelmi Szolgá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A Családi Csődvédelmi Szolgálat központi szerve az Igazságügyi Hivatal szervezeti egysége, a Családi Csődvédelmi Szolgálat területi szervei a fővárosi és megyei kormányhivatalokban felállításra kerülő szervezeti egységek. A szolgálat 2015. szeptember 1-től működik országos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Igazságügyi Szolgálatok Jogakadémiá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Szegedi Tudományegyetemmel (SZTE) együttműködésben létrehozott akadémia feladatai közé tartozik szakértők, végrehajtók, áldozatsegítők, pártfogó felügyelők, jogi segítségnyújtók, felszámolók, mediátorok, vagyonfelügyelők, az igazságügyi szolgálatok dolgozóinak képzé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Áldozatsegítő Vonal (06 80 225 2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F90-1226-4BBD-AF3B-B537FD52056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közszolgálati tisztviselők képesítési előírásairól szóló 29/2012. (III. 7.) Korm. rende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3FDE-D3AB-4B1A-923F-0D61B8F797D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Köszönhetően a kitágult és a jogszabályban alaposabban definiált szolgáltatási körnek, az Áldozatsegítő Szolgálatnál nagyobb hangsúlyt kaphat a személyre szabottsá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E8C4-3252-4965-84DC-5B45AE04377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511-9803-4D99-8D42-639771FB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855-84E2-4679-A3CD-D0A5373B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91C-7D09-43E5-85DD-0F38D851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286-BFCE-4E4A-96D8-E1ABCED5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9921-6963-400C-9822-7E7DFDE4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C440-9FFD-47C9-8F0E-08883D9C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A630-D488-4210-B7EB-928BA2ED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FDA7-3760-4675-BD8C-5C3BAE84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E775-799B-4076-9C1A-BB6C479E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BEA8-DD83-4242-9545-8D9B33B8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B80-906D-41F0-9886-D2E15861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978-D92C-4499-839C-59CF0ED1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4878-3F12-42E7-A84D-F8FE7FD6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9DCA-AC38-496E-8BCD-872137B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700-B404-48F2-A746-A96D44F0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3CF0-2DBE-4951-8F5E-09B5C4A2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929C-13FB-4CE7-BEDB-1A19FA84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B43-7111-42AD-B41B-DC2326C1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AE1-B54E-4517-B85D-73A8490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632-91FA-4E62-A005-4150394D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6EB-B0EE-467F-9344-03315B1D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40D-8718-40AB-AA79-CF51A7C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8C1-28FB-4873-9B82-EFB1DB7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494-AAEF-4F39-ABED-26F1B78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6969-8BE2-45E8-86C6-7766FB0B3B1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D2F1-E9E9-4F12-ACFD-7AAEF653392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veiszg@igazsagugy.gov.h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ooter_background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1700280"/>
            <a:ext cx="78012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Az Áldozatsegítő Szolgálat átalakulása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85760"/>
            <a:ext cx="6400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Együtt az áldozatokért kon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Belügyminisztérium, 2015. október 2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dr. Veisz Gá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Igazságügyi Hiv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Áttekinté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95" name="Diagram 4" descr=""/>
          <p:cNvPicPr/>
          <p:nvPr/>
        </p:nvPicPr>
        <p:blipFill>
          <a:blip r:embed="rId2"/>
          <a:stretch/>
        </p:blipFill>
        <p:spPr>
          <a:xfrm>
            <a:off x="701640" y="633240"/>
            <a:ext cx="79614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A területi szintű átalakulá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Magyary Program (2011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http://magyaryprogram.kormany.hu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ormányhivatali integráció első lépcsője (20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akigazgatási szervek létrehoz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gazságügyi Szolgá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ormányhivatali integráció második lépcsője (20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teljes szervezeti integráci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Gyámügyi és Igazságügyi Főosztá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A központi szint átalakulá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Áldozatsegítő Szolgálat központi szer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H (2006-2010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MISZ (2011-20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H (2012-20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H (2014. okt. 1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H új feladatai (</a:t>
            </a:r>
            <a:r>
              <a:rPr b="0" lang="hu-HU" sz="22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http://igazsagugyihivatal.gov.hu/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bírósági végrehajtók ellenőrz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saládi Csődvédelmi Szolgá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gazságügyi Szolgálatok Jogakadémiá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Áldozatsegítő Vonal (06 80 225 22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Tartalmi átalakulás 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akmai irányítási jogkö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ormányhivatal irányítása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Miniszterelnök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akmai irányító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igazságügyi minisz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akmai irányításban közreműködő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ímzett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kormánymegbízot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épesítési követelmény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ormányhivatalok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közszolg., jogi, társadalomtud., hittud., ped., andragógus, pszich., művelődésszerv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H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jogász, szociális munkás, pszichológ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Tartalmi</a:t>
            </a:r>
            <a:br>
              <a:rPr sz="3000"/>
            </a:b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átalakulás 2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07" name="Kép 4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8715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Az eljárásrend átalakulása 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10" name="Diagram 36" descr=""/>
          <p:cNvPicPr/>
          <p:nvPr/>
        </p:nvPicPr>
        <p:blipFill>
          <a:blip r:embed="rId2"/>
          <a:stretch/>
        </p:blipFill>
        <p:spPr>
          <a:xfrm>
            <a:off x="480960" y="1390680"/>
            <a:ext cx="8255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Az eljárásrend átalakulása 2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lletékmentesség (szóban tett feljelentésről készített jegyzőkönyv másolata, írásban tett feljelentés megtételét igazoló irat másol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Ást. 11. § szerinti igazol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ülönleges bánásmódot igénylő sértett (Be. 62/C. §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új BM rendelet – áldozatsegítő feladatok, egyéni értékel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új IM rendelet – speciális meghallgató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öszönöm megtisztelő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dr. Veisz Gá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főosztályvezető-helyet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Igazságügyi Hiva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Áldozatsegítési Osztá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veiszg@igazsagugy.gov.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Footer_background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óth Iván</dc:creator>
  <dc:description/>
  <dc:language>en-US</dc:language>
  <cp:lastModifiedBy>IH</cp:lastModifiedBy>
  <dcterms:modified xsi:type="dcterms:W3CDTF">2015-10-20T15:43:30Z</dcterms:modified>
  <cp:revision>532</cp:revision>
  <dc:subject/>
  <dc:title>PowerPoint Presentation</dc:title>
</cp:coreProperties>
</file>