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61AF-7E6D-4494-AA4F-C44979EC0E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F0B4-1A71-4247-9B73-2101ADD87D8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agyary Program: A jó állam fejlesztési koncepción belül indult kormányzati program a közigazgatás, elsősorban a központi közigazgatás, az államigazgatás fejlesztését céloz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0 </a:t>
            </a:r>
            <a:r>
              <a:rPr b="0" lang="hu-H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649 db közigazgatási szer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hu-H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318 db közigazgatási szer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43FE-1344-49CF-8783-F2FA3278670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végrehajtá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5. március 1-jétől az Igazságügyi Hivatal ellenőrzi a végrehajtók működését, ügyvitelét és pénzkezelését. A végrehajtókkal, végrehajtó-helyettesekkel és végrehajtójelöltekkel kapcsolatos panaszügyek intézését a bírósági végrehajtásról szóló 1994. évi LIII. törvény rendelkezése alapján az Igazságügyi Hivatal felügye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Családi Csődvédelmi Szolgá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A Családi Csődvédelmi Szolgálat központi szerve az Igazságügyi Hivatal szervezeti egysége, a Családi Csődvédelmi Szolgálat területi szervei a fővárosi és megyei kormányhivatalokban felállításra kerülő szervezeti egységek. A szolgálat 2015. szeptember 1-től működik országos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Igazságügyi Szolgálatok Jogakadémiá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Szegedi Tudományegyetemmel (SZTE) együttműködésben létrehozott akadémia feladatai közé tartozik szakértők, végrehajtók, áldozatsegítők, pártfogó felügyelők, jogi segítségnyújtók, felszámolók, mediátorok, vagyonfelügyelők, az igazságügyi szolgálatok dolgozóinak képzé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Áldozatsegítő Vonal (06 80 225 2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077-B739-45A4-85F4-6066A036411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közszolgálati tisztviselők képesítési előírásairól szóló 29/2012. (III. 7.) Korm. rende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53D-B55B-4353-891C-18A9882B2DF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Köszönhetően a kitágult és a jogszabályban alaposabban definiált szolgáltatási körnek, az Áldozatsegítő Szolgálatnál nagyobb hangsúlyt kaphat a személyre szabottsá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43B-5CB9-487D-AB4A-B6BDAB7733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F5F-28F6-4234-892C-C23A5DFC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504-BD11-4100-A1F3-C6AC5B94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086-D309-4AB8-8EA9-01E4FB79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B16-6155-43C9-8E32-17948D14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5F9D-353A-411A-A2B7-641FB440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2072-726D-4B0E-A2B7-9B7C1DAE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9F32-D90C-40FD-9F0B-8C80A5AA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2AD-682A-4C7F-B233-2001D66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CBAB-AB64-468A-B6EF-7AAB9E7D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4AAC-A9FE-4E45-B1E6-FB8082D3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7B62-98A7-49A2-A729-3F64184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1F3-8AAD-47BE-A0FB-B1E177D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459C-FD41-4ED6-88F3-D61995D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29B8-8574-4BB9-B889-DFFAE01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573C-5A8E-42C7-8B1B-2E2532BF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B88-E3E8-477B-A7DE-197ABFB1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EBA-4116-4B1D-98D6-58842F2F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2D7-E6A1-49C3-8E41-89E2C9A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AA4-3766-4567-A307-89512498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0F0-C9EE-4C7E-B840-2A23BC68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2F0-B757-4D45-B012-020EC617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CAC-8D48-4354-BB85-8F96D84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5D0-281B-487F-AA5D-B3A8F890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41D-374C-46CF-B4E5-BD2E95B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00CA-3680-401D-B5B8-B3EB95822F2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551B-0D4F-4B22-9B00-5C53453F15D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veiszg@igazsagugy.gov.h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ooter_background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1700280"/>
            <a:ext cx="78012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Áldozatsegítő Szolgálat átalakulása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85760"/>
            <a:ext cx="6400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gyütt az áldozatokért kon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Belügyminisztérium, 2015. október 2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dr. Veisz Gá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Igazságügyi Hiv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Áttekinté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95" name="Diagram 4" descr=""/>
          <p:cNvPicPr/>
          <p:nvPr/>
        </p:nvPicPr>
        <p:blipFill>
          <a:blip r:embed="rId2"/>
          <a:stretch/>
        </p:blipFill>
        <p:spPr>
          <a:xfrm>
            <a:off x="701640" y="633240"/>
            <a:ext cx="79614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 területi szintű átalakulá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Magyary Program (2011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http://magyaryprogram.kormany.hu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mányhivatali integráció első lépcsője (20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igazgatási szervek létrehoz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gazságügyi Szolgá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mányhivatali integráció második lépcsője (20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teljes szervezeti integrá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Gyámügyi és Igazságügyi Főosztá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 központi szint átalakulá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Áldozatsegítő Szolgálat központi szer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(2006-201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MISZ (2011-20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IH (2012-20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(2014. okt. 1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új feladatai (</a:t>
            </a:r>
            <a:r>
              <a:rPr b="0" lang="hu-HU" sz="22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http://igazsagugyihivatal.gov.hu/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bírósági végrehajtók ellenőrz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saládi Csődvédelmi Szolgá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gazságügyi Szolgálatok Jogakadémiá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Áldozatsegítő Vonal (06 80 225 22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Tartalmi átalakulás 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mai irányítási jogkö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ormányhivatal irányítása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Miniszterelnök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mai irányító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igazságügyi minisz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szakmai irányításban közreműködő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címzett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kormánymegbízot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épesítési követelm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ormányhivatalok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közszolg., jogi, társadalomtud., hittud., ped., andragógus, pszich., művelődésszerv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H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jogász, szociális munkás, pszichológ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Tartalmi</a:t>
            </a:r>
            <a:br>
              <a:rPr sz="3000"/>
            </a:b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átalakulás 2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Kép 4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z eljárásrend átalakulása 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10" name="Diagram 36" descr=""/>
          <p:cNvPicPr/>
          <p:nvPr/>
        </p:nvPicPr>
        <p:blipFill>
          <a:blip r:embed="rId2"/>
          <a:stretch/>
        </p:blipFill>
        <p:spPr>
          <a:xfrm>
            <a:off x="480960" y="1390680"/>
            <a:ext cx="8255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Az eljárásrend átalakulása 2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1700280"/>
            <a:ext cx="7702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illetékmentesség (szóban tett feljelentésről készített jegyzőkönyv másolata, írásban tett feljelentés megtételét igazoló irat másol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Ást. 11. § szerinti igazol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ülönleges bánásmódot igénylő sértett (Be. 62/C. §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új BM rendelet – áldozatsegítő feladatok, egyéni értékel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új IM rendelet – speciális meghallgató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Footer_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szönöm megtisztelő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dr. Veisz Gá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főosztályvezető-helye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Igazságügyi Hiva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Áldozatsegítési Oszt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veiszg@igazsagugy.gov.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Footer_background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óth Iván</dc:creator>
  <dc:description/>
  <dc:language>en-US</dc:language>
  <cp:lastModifiedBy>IH</cp:lastModifiedBy>
  <dcterms:modified xsi:type="dcterms:W3CDTF">2015-10-20T15:43:30Z</dcterms:modified>
  <cp:revision>532</cp:revision>
  <dc:subject/>
  <dc:title>PowerPoint Presentation</dc:title>
</cp:coreProperties>
</file>