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8.wmf" ContentType="image/x-wmf"/>
  <Override PartName="/ppt/media/image11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10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B83-34EA-4A8C-AADC-97BF80305A25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Dia számának hely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05F-3969-4731-99CF-16C1042AC33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Dia számának hely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75C8-F948-4942-8608-D356BB66B0F2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85A-81E0-499E-939D-B82F01AB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6F8-D21A-4E07-A366-DD58A28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273-1A0F-49E8-BF2D-39257D16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0B4-1287-49B6-9F87-42A21E11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E387-D2A5-46AA-8CD9-0B778D9A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DCFA-07D1-478B-B3E3-6D0E155C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6EE-5DF3-4901-B069-A908281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8D48-02F1-4B2C-B849-96DF36DD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20B-4F40-4E55-9A7F-12276BF8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85A-3550-4EB1-8ECA-3B049AC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A488-0F80-4319-A3E6-90FE6B46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E2D-917F-4749-94D8-549EF95F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2A9-0765-471C-8C23-EEAB1E53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DDDE-F030-4EA3-B09F-296AA84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73CA-F738-4538-B2A0-25543BCF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1E39-6823-4B85-8711-C1807184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44EB-E772-4231-A277-70CE075D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4C1C6-7E04-40F6-A214-34D51118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9D757-4D86-4149-8AAF-9A933715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979A1-A3F5-453A-A8D8-654F2D5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22B12-8860-4AFC-9C43-B957F72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A2364-416C-41EB-BC18-5A64892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7A3-AB6B-448B-A212-76C7C0F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03DD7-8283-402F-92B2-423715D6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0ECA8-7744-4CEE-87EB-DBABD53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362F2-1FD9-4A3F-9CDD-F0BA2BE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F907D-7655-4DD5-B3CE-3EFBE42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7A682-0306-4742-AC88-A790175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FB1D8-B6DE-4972-82BE-7B9DFD24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88921-4062-4F2C-8B3A-041825C9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2A7C2-7B6B-4E92-8936-D94DBA5B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9C829-0A02-419B-9E66-A3C55D87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4027E-B0BB-4C53-8E1E-06D90CC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33-29BF-4E3B-902A-2FE602B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A73FB-E4BA-48D4-BB1D-66FFD7D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100E6-3106-4BF8-B2C8-0B43938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B1937-1B41-4D8B-91A0-7F1FA149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6BCC3-EF75-438D-A1C3-68F5B16D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B9D57-F82E-4E33-B6BB-C9946BB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8918F-2CEB-4D31-A414-8BA75D6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17077-881F-4727-87A8-834DC5A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6239D-4F7A-492F-82F9-AA6D2B30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7A4D8-2663-4EC4-99C4-9153BA77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2A48B-826C-452B-A008-AC0CC0C2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B29-EE69-4275-9B9D-5FA0B9F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40630-E6A8-409F-81C7-D8D3E52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CB25A-7227-46AD-BCA3-D024F19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EA092-B41B-4F42-A76F-1F3CCEBE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E1DB5-D116-4295-97F6-9AEDFA1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F15C1-E142-4775-B78A-B8CE3EEF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6359D-CE21-4FEF-B01D-8D027FD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C3CE9-96C1-4C21-82CA-3413297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1EB0F-330C-4AC9-BB8C-4585670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FCC05-6542-4F5A-A75B-8DE1DA32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B7E51-0580-44B7-A219-98787F35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C2A-ABDF-40FD-BF82-CE5E3BD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C3E03-57B3-4B00-8DA4-170E2AB7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5C7E4-04B7-41A7-BC6A-36DEBB97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A54D-2098-4DB8-9D69-C114C3F6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133A-2D1D-4655-82E0-975DF69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6FAC-C6A7-4916-A1A0-75DC2FB1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F124-030F-4884-AEAB-33E7E39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A501-AF53-4AE2-A973-E45B117E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3831-8BF6-453A-A4D8-009C90B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FAF1-8EBD-4007-B8D2-4B392464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B130-448A-4291-85D0-4FCA75E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626-C58F-42B0-85C5-605823D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9EAB-D95B-4B3E-A54D-810F7D9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F510-6004-4125-B3B5-AAF64C5D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B2D6-7F3A-4AAA-9937-EB754856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CCF55-5FF0-4256-9D8D-74BC8337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3F47A-C2D0-4F8C-9C89-A07846D2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65869-76CA-4B8A-91F0-CE666766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A3E41-DF88-4F8B-9F47-686DF23A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74791-3DC5-4BC8-BF71-78AEDEB0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8259A-B479-4A55-A6E3-489C2CC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61CDA-9DF1-4265-9E0A-5827AF0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469-DA9F-44FC-8603-EFCFD06A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E36CC-05D4-4518-A359-B91912B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511EC-229E-433C-BE03-1A03D1C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43784-C834-4477-A9CF-B3DAF468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E7BD4-76F3-420E-82ED-E941614D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F9781-1325-4074-97C3-874BFBF9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054DF-E8EC-4132-8A44-CB014516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C43F-DF0A-4A5E-AD12-4D6F6D2E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0D12A-1446-48AA-8A7E-6B212065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3401-0D4F-4FE3-B962-EC7F48E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65C59-6E40-43F5-B4F6-7505500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A7F-0A49-48D5-8DB4-D0831FF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7B4D-B98F-4AC6-B567-0FC40F9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E3695-7494-4013-8109-1276498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6749E-60EC-43D2-9806-37562FB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A3145-C009-423B-9BAD-ADE33D1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7C872-A6B4-45D9-BB22-79BE6A38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CDA0-294E-4FA7-8751-E73871D0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521C4-0CE2-44CF-A249-F00FAB8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églalap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églalap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églalap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A51D-E127-47D9-B081-86CFE9239D51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églalap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églalap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d4d4d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B5D-2A10-4544-ACFD-9BA38CFC7406}" type="slidenum">
              <a:rPr b="1" lang="hu-HU" sz="1400" spc="-1" strike="noStrike">
                <a:solidFill>
                  <a:srgbClr val="d4d4d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églalap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églalap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82FB-2B21-4533-8416-899DBAE0D4A0}" type="slidenum">
              <a:rPr b="1" lang="hu-H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églalap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églalap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églalap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8809-F5A6-4D3A-B0B8-FDDB1A78255C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églalap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églalap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B64-8D39-4DC1-BE89-DF1E95679058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042-7FDE-4BB8-80DD-7F3D2C6D0E66}" type="slidenum">
              <a:rPr b="1" lang="hu-HU" sz="1400" spc="-1" strike="noStrike">
                <a:solidFill>
                  <a:srgbClr val="5a6378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églalap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églalap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églalap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églalap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1360-6876-4851-9258-82B4DEEDD2CB}" type="slidenum">
              <a:rPr b="1" lang="hu-H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églalap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églalap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527-4333-45B0-90FE-6B51B8F93D4E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1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EU-hun"/>
          <p:cNvPicPr/>
          <p:nvPr/>
        </p:nvPicPr>
        <p:blipFill>
          <a:blip r:embed="rId1"/>
          <a:stretch/>
        </p:blipFill>
        <p:spPr>
          <a:xfrm>
            <a:off x="324000" y="189000"/>
            <a:ext cx="887400" cy="93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E:\K meghajtó anyagai\01. NBT\NBT működésével kapcsolatos iratok\Logó\NBT logó végleges - átlátszó háttér.png"/>
          <p:cNvPicPr/>
          <p:nvPr/>
        </p:nvPicPr>
        <p:blipFill>
          <a:blip r:embed="rId2"/>
          <a:stretch/>
        </p:blipFill>
        <p:spPr>
          <a:xfrm>
            <a:off x="2217600" y="65736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églalap 2"/>
          <p:cNvSpPr/>
          <p:nvPr/>
        </p:nvSpPr>
        <p:spPr>
          <a:xfrm>
            <a:off x="208080" y="1841400"/>
            <a:ext cx="864072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5. A média és az internet veszél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Biztonságos internethaszn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Bűvösvölgy médiaértés-oktató központ oktatási tematikájának bővítése bűnmeg-előzési témá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  <p:pic>
        <p:nvPicPr>
          <p:cNvPr id="410" name="Kép 3" descr=""/>
          <p:cNvPicPr/>
          <p:nvPr/>
        </p:nvPicPr>
        <p:blipFill>
          <a:blip r:embed="rId2"/>
          <a:stretch/>
        </p:blipFill>
        <p:spPr>
          <a:xfrm>
            <a:off x="7596360" y="1841400"/>
            <a:ext cx="1419120" cy="1368360"/>
          </a:xfrm>
          <a:prstGeom prst="rect">
            <a:avLst/>
          </a:prstGeom>
          <a:ln w="0">
            <a:noFill/>
          </a:ln>
        </p:spPr>
      </p:pic>
      <p:pic>
        <p:nvPicPr>
          <p:cNvPr id="411" name="Kép 5" descr=""/>
          <p:cNvPicPr/>
          <p:nvPr/>
        </p:nvPicPr>
        <p:blipFill>
          <a:blip r:embed="rId3"/>
          <a:stretch/>
        </p:blipFill>
        <p:spPr>
          <a:xfrm>
            <a:off x="6576840" y="2943360"/>
            <a:ext cx="725760" cy="882360"/>
          </a:xfrm>
          <a:prstGeom prst="rect">
            <a:avLst/>
          </a:prstGeom>
          <a:ln w="0">
            <a:noFill/>
          </a:ln>
        </p:spPr>
      </p:pic>
      <p:pic>
        <p:nvPicPr>
          <p:cNvPr id="412" name="Kép 6" descr=""/>
          <p:cNvPicPr/>
          <p:nvPr/>
        </p:nvPicPr>
        <p:blipFill>
          <a:blip r:embed="rId4"/>
          <a:stretch/>
        </p:blipFill>
        <p:spPr>
          <a:xfrm>
            <a:off x="3635280" y="5452920"/>
            <a:ext cx="1812960" cy="1154160"/>
          </a:xfrm>
          <a:prstGeom prst="rect">
            <a:avLst/>
          </a:prstGeom>
          <a:ln w="0">
            <a:noFill/>
          </a:ln>
        </p:spPr>
      </p:pic>
      <p:pic>
        <p:nvPicPr>
          <p:cNvPr id="413" name="Kép 7" descr=""/>
          <p:cNvPicPr/>
          <p:nvPr/>
        </p:nvPicPr>
        <p:blipFill>
          <a:blip r:embed="rId5"/>
          <a:stretch/>
        </p:blipFill>
        <p:spPr>
          <a:xfrm>
            <a:off x="6094440" y="5475240"/>
            <a:ext cx="974520" cy="1111320"/>
          </a:xfrm>
          <a:prstGeom prst="rect">
            <a:avLst/>
          </a:prstGeom>
          <a:ln w="0">
            <a:noFill/>
          </a:ln>
        </p:spPr>
      </p:pic>
      <p:pic>
        <p:nvPicPr>
          <p:cNvPr id="414" name="Kép 8" descr=""/>
          <p:cNvPicPr/>
          <p:nvPr/>
        </p:nvPicPr>
        <p:blipFill>
          <a:blip r:embed="rId6"/>
          <a:stretch/>
        </p:blipFill>
        <p:spPr>
          <a:xfrm>
            <a:off x="1979640" y="5452920"/>
            <a:ext cx="9349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zövegdoboz 19"/>
          <p:cNvSpPr/>
          <p:nvPr/>
        </p:nvSpPr>
        <p:spPr>
          <a:xfrm>
            <a:off x="174600" y="2276640"/>
            <a:ext cx="82090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Az áldozattá válás megelőz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ásodlagos viktimizáció elkerül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Áldozatsegítő szolgáltatások széle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zövegdoboz 1"/>
          <p:cNvSpPr/>
          <p:nvPr/>
        </p:nvSpPr>
        <p:spPr>
          <a:xfrm>
            <a:off x="193680" y="115920"/>
            <a:ext cx="871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A bűncselekmények áldozatainak segítése, az áldozattá válás megelő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Users\USER\AppData\Local\Microsoft\Windows\Temporary Internet Files\Content.IE5\14ULWKE9\MC900078794[1].wmf"/>
          <p:cNvPicPr/>
          <p:nvPr/>
        </p:nvPicPr>
        <p:blipFill>
          <a:blip r:embed="rId1"/>
          <a:stretch/>
        </p:blipFill>
        <p:spPr>
          <a:xfrm>
            <a:off x="6885000" y="1700280"/>
            <a:ext cx="2025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zövegdoboz 19"/>
          <p:cNvSpPr/>
          <p:nvPr/>
        </p:nvSpPr>
        <p:spPr>
          <a:xfrm>
            <a:off x="193680" y="1700280"/>
            <a:ext cx="8717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3.2. A másodlagos viktimizáció elkerü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szekunder viktimizáció elkerülését szolgáló szakmai protokollok megalkotása, a működés nyomon követése és monitoring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szekunder viktimizáció elkerülését szolgáló módszerek alap- és továbbképzések részévé 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Sértettek, tanúk számára információs pultok bizto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zövegdoboz 1"/>
          <p:cNvSpPr/>
          <p:nvPr/>
        </p:nvSpPr>
        <p:spPr>
          <a:xfrm>
            <a:off x="193680" y="115920"/>
            <a:ext cx="871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A bűncselekmények áldozatainak segítése, az áldozattá válás megelő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zövegdoboz 19"/>
          <p:cNvSpPr/>
          <p:nvPr/>
        </p:nvSpPr>
        <p:spPr>
          <a:xfrm>
            <a:off x="173160" y="1916280"/>
            <a:ext cx="850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Fogvatartottak munkaerő-piaci- és társadalmi reintegrációjának elő-segíté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Alternatív szankciók és helyreállító módszerek alkalmazásának erősítése a bűncselekménnyel okozott kár kompenzálása érdeké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zövegdoboz 1"/>
          <p:cNvSpPr/>
          <p:nvPr/>
        </p:nvSpPr>
        <p:spPr>
          <a:xfrm>
            <a:off x="173160" y="39852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Comic Sans MS"/>
              </a:rPr>
              <a:t>A bűnismétlés megelő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C:\Users\USER\AppData\Local\Microsoft\Windows\Temporary Internet Files\Content.IE5\OOLXXJE2\MC900391034[1].wmf"/>
          <p:cNvPicPr/>
          <p:nvPr/>
        </p:nvPicPr>
        <p:blipFill>
          <a:blip r:embed="rId1"/>
          <a:stretch/>
        </p:blipFill>
        <p:spPr>
          <a:xfrm>
            <a:off x="324000" y="231840"/>
            <a:ext cx="715680" cy="874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USER\AppData\Local\Microsoft\Windows\Temporary Internet Files\Content.IE5\7ZRC1L4U\MC900240395[1].wmf"/>
          <p:cNvPicPr/>
          <p:nvPr/>
        </p:nvPicPr>
        <p:blipFill>
          <a:blip r:embed="rId2"/>
          <a:stretch/>
        </p:blipFill>
        <p:spPr>
          <a:xfrm>
            <a:off x="8101080" y="101520"/>
            <a:ext cx="644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églalap 2" descr=""/>
          <p:cNvPicPr/>
          <p:nvPr/>
        </p:nvPicPr>
        <p:blipFill>
          <a:blip r:embed="rId1"/>
          <a:stretch/>
        </p:blipFill>
        <p:spPr>
          <a:xfrm>
            <a:off x="268200" y="1865160"/>
            <a:ext cx="8382240" cy="1176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E:\K meghajtó anyagai\01. NBT\NBT működésével kapcsolatos iratok\Logó\NBT logó végleges - átlátszó háttér.png"/>
          <p:cNvPicPr/>
          <p:nvPr/>
        </p:nvPicPr>
        <p:blipFill>
          <a:blip r:embed="rId2"/>
          <a:stretch/>
        </p:blipFill>
        <p:spPr>
          <a:xfrm>
            <a:off x="2662200" y="2852640"/>
            <a:ext cx="36036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w Cen MT"/>
              </a:rPr>
              <a:t>A három pillér elve (vertikális)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2209680" cy="5286240"/>
          </a:xfrm>
          <a:prstGeom prst="rect">
            <a:avLst/>
          </a:prstGeom>
          <a:solidFill>
            <a:srgbClr val="60b5cc"/>
          </a:solidFill>
          <a:ln cap="sq" w="50760">
            <a:solidFill>
              <a:srgbClr val="60b5cc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az elkövetővé válás esélyének csökkentés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az áldozattá válás esélyének csökkentés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a bűnalkalmak kontrollj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14360" y="1571400"/>
            <a:ext cx="6715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Bűnmegelőzés minden olyan intézkedés és beavatkozás, amelynek célja vagy eredménye a bűnözés mennyiségi csökkentése és az állampolgárok biztonságérzetének javítása, történjék az a </a:t>
            </a:r>
            <a:r>
              <a:rPr b="1" lang="hu-HU" sz="2800" spc="-1" strike="noStrike">
                <a:solidFill>
                  <a:srgbClr val="ffffff"/>
                </a:solidFill>
                <a:latin typeface="Tw Cen MT"/>
              </a:rPr>
              <a:t>bűnalkalmak csökkentésével, a bűnözést gerjesztő okok hatásának mérséklésével vagy a sértetté válás megelőzésével</a:t>
            </a: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Európai Unió Tanács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1" descr="C:\Users\USER\AppData\Local\Microsoft\Windows\Temporary Internet Files\Content.IE5\14ULWKE9\MC900434854[1].png"/>
          <p:cNvPicPr/>
          <p:nvPr/>
        </p:nvPicPr>
        <p:blipFill>
          <a:blip r:embed="rId1"/>
          <a:stretch/>
        </p:blipFill>
        <p:spPr>
          <a:xfrm>
            <a:off x="142920" y="-419040"/>
            <a:ext cx="8821800" cy="8380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C:\Users\USER\AppData\Local\Microsoft\Windows\Temporary Internet Files\Content.IE5\OOLXXJE2\MC900439816[1].png"/>
          <p:cNvPicPr/>
          <p:nvPr/>
        </p:nvPicPr>
        <p:blipFill>
          <a:blip r:embed="rId2"/>
          <a:stretch/>
        </p:blipFill>
        <p:spPr>
          <a:xfrm>
            <a:off x="3230640" y="-603360"/>
            <a:ext cx="4097160" cy="4097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"/>
          <p:cNvPicPr/>
          <p:nvPr/>
        </p:nvPicPr>
        <p:blipFill>
          <a:blip r:embed="rId3"/>
          <a:stretch/>
        </p:blipFill>
        <p:spPr>
          <a:xfrm>
            <a:off x="4346640" y="376200"/>
            <a:ext cx="1566720" cy="1567080"/>
          </a:xfrm>
          <a:prstGeom prst="rect">
            <a:avLst/>
          </a:prstGeom>
          <a:ln w="0">
            <a:noFill/>
          </a:ln>
        </p:spPr>
      </p:pic>
      <p:sp>
        <p:nvSpPr>
          <p:cNvPr id="365" name="Szövegdoboz 1"/>
          <p:cNvSpPr/>
          <p:nvPr/>
        </p:nvSpPr>
        <p:spPr>
          <a:xfrm>
            <a:off x="1479600" y="1727280"/>
            <a:ext cx="18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Települé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zövegdoboz 13"/>
          <p:cNvSpPr/>
          <p:nvPr/>
        </p:nvSpPr>
        <p:spPr>
          <a:xfrm>
            <a:off x="1476360" y="3200400"/>
            <a:ext cx="186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biztonsá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zövegdoboz 16"/>
          <p:cNvSpPr/>
          <p:nvPr/>
        </p:nvSpPr>
        <p:spPr>
          <a:xfrm>
            <a:off x="1301760" y="5425920"/>
            <a:ext cx="221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áldozatsegítés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zövegdoboz 18"/>
          <p:cNvSpPr/>
          <p:nvPr/>
        </p:nvSpPr>
        <p:spPr>
          <a:xfrm>
            <a:off x="1065240" y="46832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Áldozattá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válás </a:t>
            </a: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megelőzése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5" descr="C:\Users\USER\AppData\Local\Microsoft\Windows\Temporary Internet Files\Content.IE5\14ULWKE9\MC900320640[1].wmf"/>
          <p:cNvPicPr/>
          <p:nvPr/>
        </p:nvPicPr>
        <p:blipFill>
          <a:blip r:embed="rId4"/>
          <a:stretch/>
        </p:blipFill>
        <p:spPr>
          <a:xfrm>
            <a:off x="5484960" y="5400720"/>
            <a:ext cx="857160" cy="911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C:\Users\USER\AppData\Local\Microsoft\Windows\Temporary Internet Files\Content.IE5\6TA7YVZQ\MC900078794[1].wmf"/>
          <p:cNvPicPr/>
          <p:nvPr/>
        </p:nvPicPr>
        <p:blipFill>
          <a:blip r:embed="rId5"/>
          <a:stretch/>
        </p:blipFill>
        <p:spPr>
          <a:xfrm flipH="1">
            <a:off x="826560" y="4027320"/>
            <a:ext cx="1800360" cy="2270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4" descr="C:\Users\USER\AppData\Local\Microsoft\Windows\Temporary Internet Files\Content.IE5\6TA7YVZQ\MC900396682[1].wmf"/>
          <p:cNvPicPr/>
          <p:nvPr/>
        </p:nvPicPr>
        <p:blipFill>
          <a:blip r:embed="rId6"/>
          <a:stretch/>
        </p:blipFill>
        <p:spPr>
          <a:xfrm>
            <a:off x="6859440" y="2489040"/>
            <a:ext cx="720720" cy="38592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15"/>
          <p:cNvSpPr/>
          <p:nvPr/>
        </p:nvSpPr>
        <p:spPr>
          <a:xfrm>
            <a:off x="6067440" y="3522600"/>
            <a:ext cx="232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ifjúságvédelem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zövegdoboz 12"/>
          <p:cNvSpPr/>
          <p:nvPr/>
        </p:nvSpPr>
        <p:spPr>
          <a:xfrm>
            <a:off x="6356520" y="2878200"/>
            <a:ext cx="19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Gyermek-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zövegdoboz 14"/>
          <p:cNvSpPr/>
          <p:nvPr/>
        </p:nvSpPr>
        <p:spPr>
          <a:xfrm>
            <a:off x="6842160" y="3213000"/>
            <a:ext cx="9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és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zövegdoboz 17"/>
          <p:cNvSpPr/>
          <p:nvPr/>
        </p:nvSpPr>
        <p:spPr>
          <a:xfrm>
            <a:off x="4341960" y="4721400"/>
            <a:ext cx="20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Bűnismétlés megelőzé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8" descr="C:\Users\USER\AppData\Local\Microsoft\Windows\Temporary Internet Files\Content.IE5\OOLXXJE2\MC900078765[1].wmf"/>
          <p:cNvPicPr/>
          <p:nvPr/>
        </p:nvPicPr>
        <p:blipFill>
          <a:blip r:embed="rId7"/>
          <a:stretch/>
        </p:blipFill>
        <p:spPr>
          <a:xfrm>
            <a:off x="7107120" y="3718080"/>
            <a:ext cx="1413000" cy="1271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C:\Users\USER\AppData\Local\Microsoft\Windows\Temporary Internet Files\Content.IE5\14ULWKE9\MC900320336[1].wmf"/>
          <p:cNvPicPr/>
          <p:nvPr/>
        </p:nvPicPr>
        <p:blipFill>
          <a:blip r:embed="rId8"/>
          <a:stretch/>
        </p:blipFill>
        <p:spPr>
          <a:xfrm>
            <a:off x="1969920" y="2165400"/>
            <a:ext cx="85428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C:\Users\USER\AppData\Local\Microsoft\Windows\Temporary Internet Files\Content.IE5\6TA7YVZQ\MC900300119[1].wmf"/>
          <p:cNvPicPr/>
          <p:nvPr/>
        </p:nvPicPr>
        <p:blipFill>
          <a:blip r:embed="rId9"/>
          <a:stretch/>
        </p:blipFill>
        <p:spPr>
          <a:xfrm flipH="1">
            <a:off x="5592600" y="3925800"/>
            <a:ext cx="640080" cy="701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2" descr="C:\Users\USER\AppData\Local\Microsoft\Windows\Temporary Internet Files\Content.IE5\7ZRC1L4U\MC900200011[1].wmf"/>
          <p:cNvPicPr/>
          <p:nvPr/>
        </p:nvPicPr>
        <p:blipFill>
          <a:blip r:embed="rId10"/>
          <a:stretch/>
        </p:blipFill>
        <p:spPr>
          <a:xfrm>
            <a:off x="2700360" y="2021040"/>
            <a:ext cx="10605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zövegdoboz 1"/>
          <p:cNvSpPr/>
          <p:nvPr/>
        </p:nvSpPr>
        <p:spPr>
          <a:xfrm>
            <a:off x="1951200" y="395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Települések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biztonsá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9" descr="C:\Users\USER\AppData\Local\Microsoft\Windows\Temporary Internet Files\Content.IE5\14ULWKE9\MC900320336[1].wmf"/>
          <p:cNvPicPr/>
          <p:nvPr/>
        </p:nvPicPr>
        <p:blipFill>
          <a:blip r:embed="rId1"/>
          <a:stretch/>
        </p:blipFill>
        <p:spPr>
          <a:xfrm>
            <a:off x="716040" y="200160"/>
            <a:ext cx="852480" cy="1035000"/>
          </a:xfrm>
          <a:prstGeom prst="rect">
            <a:avLst/>
          </a:prstGeom>
          <a:ln w="0">
            <a:noFill/>
          </a:ln>
        </p:spPr>
      </p:pic>
      <p:sp>
        <p:nvSpPr>
          <p:cNvPr id="382" name="Szövegdoboz 19"/>
          <p:cNvSpPr/>
          <p:nvPr/>
        </p:nvSpPr>
        <p:spPr>
          <a:xfrm>
            <a:off x="108000" y="2060640"/>
            <a:ext cx="8928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özösségi rendész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Bűnmegelőzés elősegítése építészeti eszközökk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ülterületeken élők biztonságának fokozá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Vagyonvé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C:\Users\USER\AppData\Local\Microsoft\Windows\Temporary Internet Files\Content.IE5\14ULWKE9\MC900424174[1].wmf"/>
          <p:cNvPicPr/>
          <p:nvPr/>
        </p:nvPicPr>
        <p:blipFill>
          <a:blip r:embed="rId2"/>
          <a:stretch/>
        </p:blipFill>
        <p:spPr>
          <a:xfrm>
            <a:off x="1374840" y="1765440"/>
            <a:ext cx="633240" cy="1015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Users\USER\AppData\Local\Microsoft\Windows\Temporary Internet Files\Content.IE5\OOLXXJE2\MC900240163[1].wmf"/>
          <p:cNvPicPr/>
          <p:nvPr/>
        </p:nvPicPr>
        <p:blipFill>
          <a:blip r:embed="rId3"/>
          <a:stretch/>
        </p:blipFill>
        <p:spPr>
          <a:xfrm>
            <a:off x="7020000" y="3330720"/>
            <a:ext cx="1805040" cy="1023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C:\Users\USER\AppData\Local\Microsoft\Windows\Temporary Internet Files\Content.IE5\OOLXXJE2\MC900290865[1].wmf"/>
          <p:cNvPicPr/>
          <p:nvPr/>
        </p:nvPicPr>
        <p:blipFill>
          <a:blip r:embed="rId4"/>
          <a:stretch/>
        </p:blipFill>
        <p:spPr>
          <a:xfrm flipH="1">
            <a:off x="6732360" y="5213520"/>
            <a:ext cx="1439640" cy="1482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C:\Users\USER\AppData\Local\Microsoft\Windows\Temporary Internet Files\Content.IE5\6TA7YVZQ\MC900319062[1].wmf"/>
          <p:cNvPicPr/>
          <p:nvPr/>
        </p:nvPicPr>
        <p:blipFill>
          <a:blip r:embed="rId5"/>
          <a:stretch/>
        </p:blipFill>
        <p:spPr>
          <a:xfrm>
            <a:off x="468360" y="5443560"/>
            <a:ext cx="19429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zövegdoboz 19"/>
          <p:cNvSpPr/>
          <p:nvPr/>
        </p:nvSpPr>
        <p:spPr>
          <a:xfrm>
            <a:off x="108000" y="2060640"/>
            <a:ext cx="892800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egelőző vagyonvédel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Hasznos szabadidő-eltölté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onfliktusok és az erőszak 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egelőzése, 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ezel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Szenvedélyek, alkohol- és drogprevenci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édia és az internet veszély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C:\Users\USER\AppData\Local\Microsoft\Windows\Temporary Internet Files\Content.IE5\14ULWKE9\MC900212799[1].wmf"/>
          <p:cNvPicPr/>
          <p:nvPr/>
        </p:nvPicPr>
        <p:blipFill>
          <a:blip r:embed="rId1"/>
          <a:stretch/>
        </p:blipFill>
        <p:spPr>
          <a:xfrm flipH="1">
            <a:off x="7458120" y="3408480"/>
            <a:ext cx="1271520" cy="1092240"/>
          </a:xfrm>
          <a:prstGeom prst="rect">
            <a:avLst/>
          </a:prstGeom>
          <a:ln w="0">
            <a:noFill/>
          </a:ln>
        </p:spPr>
      </p:pic>
      <p:sp>
        <p:nvSpPr>
          <p:cNvPr id="389" name="Szövegdoboz 1"/>
          <p:cNvSpPr/>
          <p:nvPr/>
        </p:nvSpPr>
        <p:spPr>
          <a:xfrm>
            <a:off x="1116000" y="395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8" descr="C:\Users\USER\AppData\Local\Microsoft\Windows\Temporary Internet Files\Content.IE5\OOLXXJE2\MC900078765[1].wmf"/>
          <p:cNvPicPr/>
          <p:nvPr/>
        </p:nvPicPr>
        <p:blipFill>
          <a:blip r:embed="rId2"/>
          <a:stretch/>
        </p:blipFill>
        <p:spPr>
          <a:xfrm>
            <a:off x="204840" y="-15840"/>
            <a:ext cx="1411200" cy="1271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USER\AppData\Local\Microsoft\Windows\Temporary Internet Files\Content.IE5\7ZRC1L4U\MC900360530[1].wmf"/>
          <p:cNvPicPr/>
          <p:nvPr/>
        </p:nvPicPr>
        <p:blipFill>
          <a:blip r:embed="rId3"/>
          <a:stretch/>
        </p:blipFill>
        <p:spPr>
          <a:xfrm>
            <a:off x="176040" y="5203800"/>
            <a:ext cx="14115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Users\USER\AppData\Local\Microsoft\Windows\Temporary Internet Files\Content.IE5\OOLXXJE2\MC900361044[1].wmf"/>
          <p:cNvPicPr/>
          <p:nvPr/>
        </p:nvPicPr>
        <p:blipFill>
          <a:blip r:embed="rId4"/>
          <a:stretch/>
        </p:blipFill>
        <p:spPr>
          <a:xfrm>
            <a:off x="358920" y="3408480"/>
            <a:ext cx="1101600" cy="1092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C:\Users\USER\AppData\Local\Microsoft\Windows\Temporary Internet Files\Content.IE5\14ULWKE9\MC900360512[1].wmf"/>
          <p:cNvPicPr/>
          <p:nvPr/>
        </p:nvPicPr>
        <p:blipFill>
          <a:blip r:embed="rId5"/>
          <a:stretch/>
        </p:blipFill>
        <p:spPr>
          <a:xfrm>
            <a:off x="343080" y="184464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Users\USER\AppData\Local\Microsoft\Windows\Temporary Internet Files\Content.IE5\OOLXXJE2\MC900430091[1].wmf"/>
          <p:cNvPicPr/>
          <p:nvPr/>
        </p:nvPicPr>
        <p:blipFill>
          <a:blip r:embed="rId6"/>
          <a:stretch/>
        </p:blipFill>
        <p:spPr>
          <a:xfrm>
            <a:off x="6621480" y="2220840"/>
            <a:ext cx="210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églalap 2"/>
          <p:cNvSpPr/>
          <p:nvPr/>
        </p:nvSpPr>
        <p:spPr>
          <a:xfrm>
            <a:off x="179280" y="1379520"/>
            <a:ext cx="864072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1. Megelőző vagyon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Iskolai prevenciós programok – a DADA és ELLENSZER programok működtetése az általános és középiskolákb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pedagógusok és gyermekvédelmi felelősök bűnmegelőzési képzésének beveze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pedagógusok és gyermekvédelmi felelősök bűnmegelőzési továbbképzésének beveze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bűnmegelőzés integrálása a családi és iskolai napok rendezvényeinek programjába,</a:t>
            </a:r>
            <a:r>
              <a:rPr b="0" lang="hu-H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szociális és gyermekjóléti ellátórendszerben folyó programokb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hazai jó gyakorlatok összegyűjtése és népszerűsítése a gyermek- és ifjúságvédelem területé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20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églalap 2"/>
          <p:cNvSpPr/>
          <p:nvPr/>
        </p:nvSpPr>
        <p:spPr>
          <a:xfrm>
            <a:off x="208080" y="1841400"/>
            <a:ext cx="86407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2. Hasznos szabadidő-eltöl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testnevelő tanárok és edzők bűnmegelőzési képzésének és továbbképzésének bevez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bűnmegelőzés beemelése az állami, egyházi és önkormányzati gyermektáborok programja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z időskorúak aktív bevonásának vizsgá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églalap 2"/>
          <p:cNvSpPr/>
          <p:nvPr/>
        </p:nvSpPr>
        <p:spPr>
          <a:xfrm>
            <a:off x="208080" y="1841400"/>
            <a:ext cx="864072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3. Konfliktusok és az erőszak megelőzése, kez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Módszertan készítése az iskolai erőszak hatékony megelőzése érdek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bűnmegelőzési ismeretek integrálása már működő felzárkózási programo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Iskolai mediátorok kép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család védelmi funkciójának növ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églalap 2"/>
          <p:cNvSpPr/>
          <p:nvPr/>
        </p:nvSpPr>
        <p:spPr>
          <a:xfrm>
            <a:off x="208080" y="1841400"/>
            <a:ext cx="864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4. Szenvedélybetegségek megelőzése, alkohol- és drogpreven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Szórakozóhely-ellenőrzések fok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z ELLEN-SZER programhoz tananyag 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z élménypedagógia módszerének népsze-rűsítése, trénerképzések tartása tanárok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1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10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23:05Z</dcterms:created>
  <dc:creator>borbiro</dc:creator>
  <dc:description/>
  <dc:language>en-US</dc:language>
  <cp:lastModifiedBy>Hatala József dr.</cp:lastModifiedBy>
  <cp:lastPrinted>2013-10-16T05:42:48Z</cp:lastPrinted>
  <dcterms:modified xsi:type="dcterms:W3CDTF">2015-09-08T12:00:33Z</dcterms:modified>
  <cp:revision>177</cp:revision>
  <dc:subject/>
  <dc:title>A Társadalmi bűnmegelőzés nemzeti stratégiája</dc:title>
</cp:coreProperties>
</file>