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8.wmf" ContentType="image/x-wmf"/>
  <Override PartName="/ppt/media/image11.wmf" ContentType="image/x-wmf"/>
  <Override PartName="/ppt/media/image3.gif" ContentType="image/gif"/>
  <Override PartName="/ppt/media/image6.png" ContentType="image/png"/>
  <Override PartName="/ppt/media/image14.wmf" ContentType="image/x-wmf"/>
  <Override PartName="/ppt/media/image10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png" ContentType="image/png"/>
  <Override PartName="/ppt/media/image12.wmf" ContentType="image/x-wmf"/>
  <Override PartName="/ppt/media/image30.wmf" ContentType="image/x-wmf"/>
  <Override PartName="/ppt/media/image3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D6AB-8D8D-45E0-988D-D2B9ABAC4492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Dia számának helye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ABD6-BCD0-45B6-94C8-E7E5771F2E30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Dia számának helye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F971-C2FE-4ED7-8564-C91166E393B0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D5E-09E0-45B5-94AC-8809872D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E45-5BF4-4B81-A63A-456FC689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8B9-068F-47A8-87BA-64EF5AAD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3D4-A3D1-48CC-AA53-9DA9F9D2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82E8-FBBB-4539-A8D3-A8C087FA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597E-26C4-406F-B9CD-D08D603F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90C0-B834-4D0E-A327-755E6FAA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090A-ECC7-40B5-9871-8BD25DB4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A2C0-2BEB-4B67-B987-286D789F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E87F-2714-4A43-8386-D23AA002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83E8-5AEA-4852-ACB4-55ED6BF7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974-9798-41AB-9EF1-0B0C1FE9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123D-21A6-4B7B-9A66-C93167AF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4E78-06F8-4DEF-808E-82A91CC6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9126-DEE7-4D8B-BDE1-B3BEE535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7EC3-33B9-4A90-B032-5C2CDEF0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E650-E8B1-4A91-B6C7-4F60B3EE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AEDBD-73FB-464F-A2C7-702A57C8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B17FE-7787-4994-AD6A-41A82025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608F0-9D67-4B5D-99D8-5BB47605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E6C72-7181-46CB-B525-E8058F8B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BD9D1-0376-4A00-8EBE-8A8B7A5C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70F-F4D1-423F-A796-BEC5DB25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023B6-ACE3-4904-9FC7-CA1105DB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65136-2C9C-4D9E-BA50-F722855A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5357B-27FB-4000-BF35-05F5DAD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64359-DB2E-4AC3-9412-E0B8A58D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90454-0752-4292-935A-4A8EF170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A08EF-E588-43D8-9E84-E4BA1AF4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CE082-0F77-4B39-8599-90DE8429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59181-8AF1-4810-A94F-B535B5DA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64A40-E121-4C58-882A-6A509C11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F37E2-E188-4BCA-9896-8CC0324A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959-88F9-4C17-8D7E-ED6D90B5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DC638-DC81-4A2B-A0FA-91768C23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58D87-62A0-48C3-A302-25413572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8E5C2-ED31-4DB7-93C8-FCF9D30C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1D65E-B09C-4C15-879E-7AC6ED85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90D63-B445-43C5-8119-510F30BC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49E22-4ABA-4073-9458-D07C875C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085B4-0C43-4EF5-91DC-3984904D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3ED50-EC72-4568-951C-F6FAE35B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A3F8B-F8D5-407A-9FD6-52FD73C8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0D685-68DC-4769-B79A-59F1647A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B98-CFC2-4C06-82C2-83E0EB2D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9CCDC-E775-4001-980A-7CA6740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D0E4A-AD8D-439C-81A8-4C6E909D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DCED1-E691-4337-A290-C4AEC859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4A95E-06F0-4EBF-8ED4-DBC2E8DA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333CB-DF40-4001-A845-0117759B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3E3A9-29AA-4467-A770-325E68B9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42D76-E409-4BAA-87B4-52470680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E1437-FB83-4584-970E-4E9A10F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EE643-B57D-4B77-8FA1-0609867B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4DE41-1112-4B58-8C0D-A0C5F5F4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F23-2F7C-4F91-9EDC-7E8F3FA1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10D02-2628-45A4-B406-DFD5DD52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BCC11-64B0-4810-A427-A228F2AB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6F56A-4C8E-494E-A12B-9363C68E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6EDA1-5D5D-4C43-A57B-D2F8B12E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99741-ADEC-48C8-9B75-F1A29037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6F4E4-079B-4D78-8854-82FBAD43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E0D91-8619-450B-8C12-C8A23E7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0B0C3-0734-4E95-9E75-9DC0EB1D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65D00-CBAB-469B-968E-947751A1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E831D-773D-4097-A94E-273289A2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999-B60A-4E78-8CC6-074DFB02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EE761-57BA-4117-82F4-E5992E4E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485B2-C163-478C-B0AC-3922F5E3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93E6-ADBF-495C-93FE-3094FA31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C0277-2BF0-4ABE-B4ED-4E3CD263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B2104-2F3D-4A53-8270-2A6073C4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70B23-C5DA-4202-98C1-20041534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B50E1-D474-4017-B24B-DC75BB12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B7C90-45BF-4033-95A5-93141246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459BDD-7939-4C18-B569-B3443F94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2136A-66BB-4DEA-80DE-3945D802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C06-96AB-4F0A-8559-FA61795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F0446-62DF-4550-B383-A9C1FB4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A81DB-5623-43A3-8FD5-BF2949C8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32DF5-ED33-4A96-8394-73C8A73E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FAB9C-95F8-4B0C-9962-94CDA5FA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3C42F3-0D89-457C-A893-F853E96E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E13C9-D744-415E-BA46-CAF040ED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2119B-8947-4C1F-8BF7-72062CF1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0701C-2BDB-4C0B-9B97-39CFDC91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A3856-2440-4134-BB2D-CF60A48B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90D29-C6EF-47C1-ABE7-C2E08906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4A7-2E1A-40B8-908C-9E4AC18C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84FD8-AA2D-43A7-B3DC-5196D4E8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C504D-BB5C-4131-BC8A-C362AB69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AF12C-E0BC-4609-A78D-68E9F3A2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5F748-F4C4-4F68-B434-5447BECF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BEDF2-547D-475C-A655-9C345E34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C7C22-DE73-41B3-B0A4-3CE22063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86F59-5725-45FC-AE21-36C95A3D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églalap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églalap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églalap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A98A-F136-45D5-9960-82AFF4F79283}" type="slidenum">
              <a:rPr b="1" lang="hu-H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églalap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églalap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d4d4d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2640-C9D7-496D-AD1A-7FB5CB55991B}" type="slidenum">
              <a:rPr b="1" lang="hu-HU" sz="1400" spc="-1" strike="noStrike">
                <a:solidFill>
                  <a:srgbClr val="d4d4d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églalap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églalap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églalap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2F04-EF98-49CF-A6E6-9220C32661A9}" type="slidenum">
              <a:rPr b="1" lang="hu-HU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églalap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églalap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églalap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EB8B-04F1-40CE-B7D2-A646B5D6B4B7}" type="slidenum">
              <a:rPr b="1" lang="hu-H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églalap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églalap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C7B3-3434-409D-BBC4-C189C21CFE46}" type="slidenum">
              <a:rPr b="1" lang="hu-H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57A9-6904-4158-AC9D-D0ED643AAD9F}" type="slidenum">
              <a:rPr b="1" lang="hu-HU" sz="1400" spc="-1" strike="noStrike">
                <a:solidFill>
                  <a:srgbClr val="5a6378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églalap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églalap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églalap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églalap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56F1-8057-4913-97BD-1388F06B7939}" type="slidenum">
              <a:rPr b="1" lang="hu-HU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églalap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églalap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églalap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a6378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5a6378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6A2E-A50B-4735-BF43-F148C5DC59EC}" type="slidenum">
              <a:rPr b="1" lang="hu-H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1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EU-hun"/>
          <p:cNvPicPr/>
          <p:nvPr/>
        </p:nvPicPr>
        <p:blipFill>
          <a:blip r:embed="rId1"/>
          <a:stretch/>
        </p:blipFill>
        <p:spPr>
          <a:xfrm>
            <a:off x="324000" y="189000"/>
            <a:ext cx="887400" cy="936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E:\K meghajtó anyagai\01. NBT\NBT működésével kapcsolatos iratok\Logó\NBT logó végleges - átlátszó háttér.png"/>
          <p:cNvPicPr/>
          <p:nvPr/>
        </p:nvPicPr>
        <p:blipFill>
          <a:blip r:embed="rId2"/>
          <a:stretch/>
        </p:blipFill>
        <p:spPr>
          <a:xfrm>
            <a:off x="2217600" y="657360"/>
            <a:ext cx="48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zövegdoboz 1"/>
          <p:cNvSpPr/>
          <p:nvPr/>
        </p:nvSpPr>
        <p:spPr>
          <a:xfrm>
            <a:off x="1979640" y="312840"/>
            <a:ext cx="68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églalap 2"/>
          <p:cNvSpPr/>
          <p:nvPr/>
        </p:nvSpPr>
        <p:spPr>
          <a:xfrm>
            <a:off x="208080" y="1841400"/>
            <a:ext cx="864072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2.5. A média és az internet veszél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Biztonságos internethaszná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Bűvösvölgy médiaértés-oktató központ oktatási tematikájának bővítése bűnmeg-előzési témákk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8" descr="C:\Users\USER\AppData\Local\Microsoft\Windows\Temporary Internet Files\Content.IE5\OOLXXJE2\MC900078765[1].wmf"/>
          <p:cNvPicPr/>
          <p:nvPr/>
        </p:nvPicPr>
        <p:blipFill>
          <a:blip r:embed="rId1"/>
          <a:stretch/>
        </p:blipFill>
        <p:spPr>
          <a:xfrm>
            <a:off x="395280" y="0"/>
            <a:ext cx="1411200" cy="1271520"/>
          </a:xfrm>
          <a:prstGeom prst="rect">
            <a:avLst/>
          </a:prstGeom>
          <a:ln w="0">
            <a:noFill/>
          </a:ln>
        </p:spPr>
      </p:pic>
      <p:pic>
        <p:nvPicPr>
          <p:cNvPr id="410" name="Kép 3" descr=""/>
          <p:cNvPicPr/>
          <p:nvPr/>
        </p:nvPicPr>
        <p:blipFill>
          <a:blip r:embed="rId2"/>
          <a:stretch/>
        </p:blipFill>
        <p:spPr>
          <a:xfrm>
            <a:off x="7596360" y="1841400"/>
            <a:ext cx="1419120" cy="1368360"/>
          </a:xfrm>
          <a:prstGeom prst="rect">
            <a:avLst/>
          </a:prstGeom>
          <a:ln w="0">
            <a:noFill/>
          </a:ln>
        </p:spPr>
      </p:pic>
      <p:pic>
        <p:nvPicPr>
          <p:cNvPr id="411" name="Kép 5" descr=""/>
          <p:cNvPicPr/>
          <p:nvPr/>
        </p:nvPicPr>
        <p:blipFill>
          <a:blip r:embed="rId3"/>
          <a:stretch/>
        </p:blipFill>
        <p:spPr>
          <a:xfrm>
            <a:off x="6576840" y="2943360"/>
            <a:ext cx="725760" cy="882360"/>
          </a:xfrm>
          <a:prstGeom prst="rect">
            <a:avLst/>
          </a:prstGeom>
          <a:ln w="0">
            <a:noFill/>
          </a:ln>
        </p:spPr>
      </p:pic>
      <p:pic>
        <p:nvPicPr>
          <p:cNvPr id="412" name="Kép 6" descr=""/>
          <p:cNvPicPr/>
          <p:nvPr/>
        </p:nvPicPr>
        <p:blipFill>
          <a:blip r:embed="rId4"/>
          <a:stretch/>
        </p:blipFill>
        <p:spPr>
          <a:xfrm>
            <a:off x="3635280" y="5452920"/>
            <a:ext cx="1812960" cy="1154160"/>
          </a:xfrm>
          <a:prstGeom prst="rect">
            <a:avLst/>
          </a:prstGeom>
          <a:ln w="0">
            <a:noFill/>
          </a:ln>
        </p:spPr>
      </p:pic>
      <p:pic>
        <p:nvPicPr>
          <p:cNvPr id="413" name="Kép 7" descr=""/>
          <p:cNvPicPr/>
          <p:nvPr/>
        </p:nvPicPr>
        <p:blipFill>
          <a:blip r:embed="rId5"/>
          <a:stretch/>
        </p:blipFill>
        <p:spPr>
          <a:xfrm>
            <a:off x="6094440" y="5475240"/>
            <a:ext cx="974520" cy="1111320"/>
          </a:xfrm>
          <a:prstGeom prst="rect">
            <a:avLst/>
          </a:prstGeom>
          <a:ln w="0">
            <a:noFill/>
          </a:ln>
        </p:spPr>
      </p:pic>
      <p:pic>
        <p:nvPicPr>
          <p:cNvPr id="414" name="Kép 8" descr=""/>
          <p:cNvPicPr/>
          <p:nvPr/>
        </p:nvPicPr>
        <p:blipFill>
          <a:blip r:embed="rId6"/>
          <a:stretch/>
        </p:blipFill>
        <p:spPr>
          <a:xfrm>
            <a:off x="1979640" y="5452920"/>
            <a:ext cx="93492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250" autoRev="1" fill="hold"/>
                                        <p:tgtEl>
                                          <p:spTgt spid="4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zövegdoboz 19"/>
          <p:cNvSpPr/>
          <p:nvPr/>
        </p:nvSpPr>
        <p:spPr>
          <a:xfrm>
            <a:off x="174600" y="2276640"/>
            <a:ext cx="820908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Az áldozattá válás megelőzé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Másodlagos viktimizáció elkerülé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Áldozatsegítő szolgáltatások széles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zövegdoboz 1"/>
          <p:cNvSpPr/>
          <p:nvPr/>
        </p:nvSpPr>
        <p:spPr>
          <a:xfrm>
            <a:off x="193680" y="115920"/>
            <a:ext cx="871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A bűncselekmények áldozatainak segítése, az áldozattá válás megelő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Users\USER\AppData\Local\Microsoft\Windows\Temporary Internet Files\Content.IE5\14ULWKE9\MC900078794[1].wmf"/>
          <p:cNvPicPr/>
          <p:nvPr/>
        </p:nvPicPr>
        <p:blipFill>
          <a:blip r:embed="rId1"/>
          <a:stretch/>
        </p:blipFill>
        <p:spPr>
          <a:xfrm>
            <a:off x="6885000" y="1700280"/>
            <a:ext cx="2025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zövegdoboz 19"/>
          <p:cNvSpPr/>
          <p:nvPr/>
        </p:nvSpPr>
        <p:spPr>
          <a:xfrm>
            <a:off x="193680" y="1700280"/>
            <a:ext cx="8717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3.2. A másodlagos viktimizáció elkerü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szekunder viktimizáció elkerülését szolgáló szakmai protokollok megalkotása, a működés nyomon követése és monitoring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szekunder viktimizáció elkerülését szolgáló módszerek alap- és továbbképzések részévé té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60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Sértettek, tanúk számára információs pultok bizto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zövegdoboz 1"/>
          <p:cNvSpPr/>
          <p:nvPr/>
        </p:nvSpPr>
        <p:spPr>
          <a:xfrm>
            <a:off x="193680" y="115920"/>
            <a:ext cx="871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A bűncselekmények áldozatainak segítése, az áldozattá válás megelő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6" dur="20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zövegdoboz 19"/>
          <p:cNvSpPr/>
          <p:nvPr/>
        </p:nvSpPr>
        <p:spPr>
          <a:xfrm>
            <a:off x="173160" y="1916280"/>
            <a:ext cx="8502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Fogvatartottak munkaerő-piaci- és társadalmi reintegrációjának elő-segítés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Alternatív szankciók és helyreállító módszerek alkalmazásának erősítése a bűncselekménnyel okozott kár kompenzálása érdeké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zövegdoboz 1"/>
          <p:cNvSpPr/>
          <p:nvPr/>
        </p:nvSpPr>
        <p:spPr>
          <a:xfrm>
            <a:off x="173160" y="39852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Comic Sans MS"/>
              </a:rPr>
              <a:t>A bűnismétlés megelőz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C:\Users\USER\AppData\Local\Microsoft\Windows\Temporary Internet Files\Content.IE5\OOLXXJE2\MC900391034[1].wmf"/>
          <p:cNvPicPr/>
          <p:nvPr/>
        </p:nvPicPr>
        <p:blipFill>
          <a:blip r:embed="rId1"/>
          <a:stretch/>
        </p:blipFill>
        <p:spPr>
          <a:xfrm>
            <a:off x="324000" y="231840"/>
            <a:ext cx="715680" cy="874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Users\USER\AppData\Local\Microsoft\Windows\Temporary Internet Files\Content.IE5\7ZRC1L4U\MC900240395[1].wmf"/>
          <p:cNvPicPr/>
          <p:nvPr/>
        </p:nvPicPr>
        <p:blipFill>
          <a:blip r:embed="rId2"/>
          <a:stretch/>
        </p:blipFill>
        <p:spPr>
          <a:xfrm>
            <a:off x="8101080" y="101520"/>
            <a:ext cx="6444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églalap 2" descr=""/>
          <p:cNvPicPr/>
          <p:nvPr/>
        </p:nvPicPr>
        <p:blipFill>
          <a:blip r:embed="rId1"/>
          <a:stretch/>
        </p:blipFill>
        <p:spPr>
          <a:xfrm>
            <a:off x="268200" y="1865160"/>
            <a:ext cx="8382240" cy="1176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E:\K meghajtó anyagai\01. NBT\NBT működésével kapcsolatos iratok\Logó\NBT logó végleges - átlátszó háttér.png"/>
          <p:cNvPicPr/>
          <p:nvPr/>
        </p:nvPicPr>
        <p:blipFill>
          <a:blip r:embed="rId2"/>
          <a:stretch/>
        </p:blipFill>
        <p:spPr>
          <a:xfrm>
            <a:off x="2662200" y="2852640"/>
            <a:ext cx="36036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w Cen MT"/>
              </a:rPr>
              <a:t>A három pillér elve (vertikális)</a:t>
            </a:r>
            <a:endParaRPr b="0" lang="en-US" sz="4400" spc="-1" strike="noStrike">
              <a:solidFill>
                <a:srgbClr val="5a6378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571760"/>
            <a:ext cx="2209680" cy="5286240"/>
          </a:xfrm>
          <a:prstGeom prst="rect">
            <a:avLst/>
          </a:prstGeom>
          <a:solidFill>
            <a:srgbClr val="60b5cc"/>
          </a:solidFill>
          <a:ln cap="sq" w="50760">
            <a:solidFill>
              <a:srgbClr val="60b5cc"/>
            </a:solidFill>
            <a:miter/>
          </a:ln>
        </p:spPr>
        <p:txBody>
          <a:bodyPr lIns="137160" rIns="137160" tIns="182880" bIns="91440" anchor="t">
            <a:normAutofit fontScale="99000"/>
          </a:bodyPr>
          <a:p>
            <a:pPr indent="0" algn="ctr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w Cen MT"/>
              </a:rPr>
              <a:t>az elkövetővé válás esélyének csökkentés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w Cen MT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w Cen MT"/>
              </a:rPr>
              <a:t>az áldozattá válás esélyének csökkentés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w Cen MT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w Cen MT"/>
              </a:rPr>
              <a:t>a bűnalkalmak kontrollja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214360" y="1571400"/>
            <a:ext cx="6715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w Cen MT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Tw Cen MT"/>
              </a:rPr>
              <a:t>Bűnmegelőzés minden olyan intézkedés és beavatkozás, amelynek célja vagy eredménye a bűnözés mennyiségi csökkentése és az állampolgárok biztonságérzetének javítása, történjék az a </a:t>
            </a:r>
            <a:r>
              <a:rPr b="1" lang="hu-HU" sz="2800" spc="-1" strike="noStrike">
                <a:solidFill>
                  <a:srgbClr val="ffffff"/>
                </a:solidFill>
                <a:latin typeface="Tw Cen MT"/>
              </a:rPr>
              <a:t>bűnalkalmak csökkentésével, a bűnözést gerjesztő okok hatásának mérséklésével vagy a sértetté válás megelőzésével</a:t>
            </a:r>
            <a:r>
              <a:rPr b="0" lang="hu-HU" sz="2800" spc="-1" strike="noStrike">
                <a:solidFill>
                  <a:srgbClr val="ffffff"/>
                </a:solidFill>
                <a:latin typeface="Tw Cen MT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w Cen MT"/>
              </a:rPr>
              <a:t>Európai Unió Tanács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1" descr="C:\Users\USER\AppData\Local\Microsoft\Windows\Temporary Internet Files\Content.IE5\14ULWKE9\MC900434854[1].png"/>
          <p:cNvPicPr/>
          <p:nvPr/>
        </p:nvPicPr>
        <p:blipFill>
          <a:blip r:embed="rId1"/>
          <a:stretch/>
        </p:blipFill>
        <p:spPr>
          <a:xfrm>
            <a:off x="142920" y="-419040"/>
            <a:ext cx="8821800" cy="8380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C:\Users\USER\AppData\Local\Microsoft\Windows\Temporary Internet Files\Content.IE5\OOLXXJE2\MC900439816[1].png"/>
          <p:cNvPicPr/>
          <p:nvPr/>
        </p:nvPicPr>
        <p:blipFill>
          <a:blip r:embed="rId2"/>
          <a:stretch/>
        </p:blipFill>
        <p:spPr>
          <a:xfrm>
            <a:off x="3230640" y="-603360"/>
            <a:ext cx="4097160" cy="4097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"/>
          <p:cNvPicPr/>
          <p:nvPr/>
        </p:nvPicPr>
        <p:blipFill>
          <a:blip r:embed="rId3"/>
          <a:stretch/>
        </p:blipFill>
        <p:spPr>
          <a:xfrm>
            <a:off x="4346640" y="376200"/>
            <a:ext cx="1566720" cy="1567080"/>
          </a:xfrm>
          <a:prstGeom prst="rect">
            <a:avLst/>
          </a:prstGeom>
          <a:ln w="0">
            <a:noFill/>
          </a:ln>
        </p:spPr>
      </p:pic>
      <p:sp>
        <p:nvSpPr>
          <p:cNvPr id="365" name="Szövegdoboz 1"/>
          <p:cNvSpPr/>
          <p:nvPr/>
        </p:nvSpPr>
        <p:spPr>
          <a:xfrm>
            <a:off x="1479600" y="1727280"/>
            <a:ext cx="186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Település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zövegdoboz 13"/>
          <p:cNvSpPr/>
          <p:nvPr/>
        </p:nvSpPr>
        <p:spPr>
          <a:xfrm>
            <a:off x="1476360" y="3200400"/>
            <a:ext cx="186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biztonsá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zövegdoboz 16"/>
          <p:cNvSpPr/>
          <p:nvPr/>
        </p:nvSpPr>
        <p:spPr>
          <a:xfrm>
            <a:off x="1301760" y="5425920"/>
            <a:ext cx="221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áldozatsegítés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zövegdoboz 18"/>
          <p:cNvSpPr/>
          <p:nvPr/>
        </p:nvSpPr>
        <p:spPr>
          <a:xfrm>
            <a:off x="1065240" y="46832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Áldozattá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 válás </a:t>
            </a: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megelőzése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5" descr="C:\Users\USER\AppData\Local\Microsoft\Windows\Temporary Internet Files\Content.IE5\14ULWKE9\MC900320640[1].wmf"/>
          <p:cNvPicPr/>
          <p:nvPr/>
        </p:nvPicPr>
        <p:blipFill>
          <a:blip r:embed="rId4"/>
          <a:stretch/>
        </p:blipFill>
        <p:spPr>
          <a:xfrm>
            <a:off x="5484960" y="5400720"/>
            <a:ext cx="857160" cy="911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C:\Users\USER\AppData\Local\Microsoft\Windows\Temporary Internet Files\Content.IE5\6TA7YVZQ\MC900078794[1].wmf"/>
          <p:cNvPicPr/>
          <p:nvPr/>
        </p:nvPicPr>
        <p:blipFill>
          <a:blip r:embed="rId5"/>
          <a:stretch/>
        </p:blipFill>
        <p:spPr>
          <a:xfrm flipH="1">
            <a:off x="826560" y="4027320"/>
            <a:ext cx="1800360" cy="22701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4" descr="C:\Users\USER\AppData\Local\Microsoft\Windows\Temporary Internet Files\Content.IE5\6TA7YVZQ\MC900396682[1].wmf"/>
          <p:cNvPicPr/>
          <p:nvPr/>
        </p:nvPicPr>
        <p:blipFill>
          <a:blip r:embed="rId6"/>
          <a:stretch/>
        </p:blipFill>
        <p:spPr>
          <a:xfrm>
            <a:off x="6859440" y="2489040"/>
            <a:ext cx="720720" cy="385920"/>
          </a:xfrm>
          <a:prstGeom prst="rect">
            <a:avLst/>
          </a:prstGeom>
          <a:ln w="0">
            <a:noFill/>
          </a:ln>
        </p:spPr>
      </p:pic>
      <p:sp>
        <p:nvSpPr>
          <p:cNvPr id="372" name="Szövegdoboz 15"/>
          <p:cNvSpPr/>
          <p:nvPr/>
        </p:nvSpPr>
        <p:spPr>
          <a:xfrm>
            <a:off x="6067440" y="3522600"/>
            <a:ext cx="232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ifjúságvédelem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zövegdoboz 12"/>
          <p:cNvSpPr/>
          <p:nvPr/>
        </p:nvSpPr>
        <p:spPr>
          <a:xfrm>
            <a:off x="6356520" y="2878200"/>
            <a:ext cx="194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Gyermek-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zövegdoboz 14"/>
          <p:cNvSpPr/>
          <p:nvPr/>
        </p:nvSpPr>
        <p:spPr>
          <a:xfrm>
            <a:off x="6842160" y="3213000"/>
            <a:ext cx="9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és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zövegdoboz 17"/>
          <p:cNvSpPr/>
          <p:nvPr/>
        </p:nvSpPr>
        <p:spPr>
          <a:xfrm>
            <a:off x="4341960" y="4721400"/>
            <a:ext cx="207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Bűnismétlés megelőzé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8" descr="C:\Users\USER\AppData\Local\Microsoft\Windows\Temporary Internet Files\Content.IE5\OOLXXJE2\MC900078765[1].wmf"/>
          <p:cNvPicPr/>
          <p:nvPr/>
        </p:nvPicPr>
        <p:blipFill>
          <a:blip r:embed="rId7"/>
          <a:stretch/>
        </p:blipFill>
        <p:spPr>
          <a:xfrm>
            <a:off x="7107120" y="3718080"/>
            <a:ext cx="1413000" cy="1271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9" descr="C:\Users\USER\AppData\Local\Microsoft\Windows\Temporary Internet Files\Content.IE5\14ULWKE9\MC900320336[1].wmf"/>
          <p:cNvPicPr/>
          <p:nvPr/>
        </p:nvPicPr>
        <p:blipFill>
          <a:blip r:embed="rId8"/>
          <a:stretch/>
        </p:blipFill>
        <p:spPr>
          <a:xfrm>
            <a:off x="1969920" y="2165400"/>
            <a:ext cx="854280" cy="103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C:\Users\USER\AppData\Local\Microsoft\Windows\Temporary Internet Files\Content.IE5\6TA7YVZQ\MC900300119[1].wmf"/>
          <p:cNvPicPr/>
          <p:nvPr/>
        </p:nvPicPr>
        <p:blipFill>
          <a:blip r:embed="rId9"/>
          <a:stretch/>
        </p:blipFill>
        <p:spPr>
          <a:xfrm flipH="1">
            <a:off x="5592600" y="3925800"/>
            <a:ext cx="640080" cy="701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2" descr="C:\Users\USER\AppData\Local\Microsoft\Windows\Temporary Internet Files\Content.IE5\7ZRC1L4U\MC900200011[1].wmf"/>
          <p:cNvPicPr/>
          <p:nvPr/>
        </p:nvPicPr>
        <p:blipFill>
          <a:blip r:embed="rId10"/>
          <a:stretch/>
        </p:blipFill>
        <p:spPr>
          <a:xfrm>
            <a:off x="2700360" y="2021040"/>
            <a:ext cx="10605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zövegdoboz 1"/>
          <p:cNvSpPr/>
          <p:nvPr/>
        </p:nvSpPr>
        <p:spPr>
          <a:xfrm>
            <a:off x="1951200" y="395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Települések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biztonsá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9" descr="C:\Users\USER\AppData\Local\Microsoft\Windows\Temporary Internet Files\Content.IE5\14ULWKE9\MC900320336[1].wmf"/>
          <p:cNvPicPr/>
          <p:nvPr/>
        </p:nvPicPr>
        <p:blipFill>
          <a:blip r:embed="rId1"/>
          <a:stretch/>
        </p:blipFill>
        <p:spPr>
          <a:xfrm>
            <a:off x="716040" y="200160"/>
            <a:ext cx="852480" cy="1035000"/>
          </a:xfrm>
          <a:prstGeom prst="rect">
            <a:avLst/>
          </a:prstGeom>
          <a:ln w="0">
            <a:noFill/>
          </a:ln>
        </p:spPr>
      </p:pic>
      <p:sp>
        <p:nvSpPr>
          <p:cNvPr id="382" name="Szövegdoboz 19"/>
          <p:cNvSpPr/>
          <p:nvPr/>
        </p:nvSpPr>
        <p:spPr>
          <a:xfrm>
            <a:off x="108000" y="2060640"/>
            <a:ext cx="8928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Közösségi rendész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Bűnmegelőzés elősegítése építészeti eszközökk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Külterületeken élők biztonságának fokozá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Vagyonvéd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C:\Users\USER\AppData\Local\Microsoft\Windows\Temporary Internet Files\Content.IE5\14ULWKE9\MC900424174[1].wmf"/>
          <p:cNvPicPr/>
          <p:nvPr/>
        </p:nvPicPr>
        <p:blipFill>
          <a:blip r:embed="rId2"/>
          <a:stretch/>
        </p:blipFill>
        <p:spPr>
          <a:xfrm>
            <a:off x="1374840" y="1765440"/>
            <a:ext cx="633240" cy="1015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:\Users\USER\AppData\Local\Microsoft\Windows\Temporary Internet Files\Content.IE5\OOLXXJE2\MC900240163[1].wmf"/>
          <p:cNvPicPr/>
          <p:nvPr/>
        </p:nvPicPr>
        <p:blipFill>
          <a:blip r:embed="rId3"/>
          <a:stretch/>
        </p:blipFill>
        <p:spPr>
          <a:xfrm>
            <a:off x="7020000" y="3330720"/>
            <a:ext cx="1805040" cy="1023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C:\Users\USER\AppData\Local\Microsoft\Windows\Temporary Internet Files\Content.IE5\OOLXXJE2\MC900290865[1].wmf"/>
          <p:cNvPicPr/>
          <p:nvPr/>
        </p:nvPicPr>
        <p:blipFill>
          <a:blip r:embed="rId4"/>
          <a:stretch/>
        </p:blipFill>
        <p:spPr>
          <a:xfrm flipH="1">
            <a:off x="6732360" y="5213520"/>
            <a:ext cx="1439640" cy="14824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C:\Users\USER\AppData\Local\Microsoft\Windows\Temporary Internet Files\Content.IE5\6TA7YVZQ\MC900319062[1].wmf"/>
          <p:cNvPicPr/>
          <p:nvPr/>
        </p:nvPicPr>
        <p:blipFill>
          <a:blip r:embed="rId5"/>
          <a:stretch/>
        </p:blipFill>
        <p:spPr>
          <a:xfrm>
            <a:off x="468360" y="5443560"/>
            <a:ext cx="194292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zövegdoboz 19"/>
          <p:cNvSpPr/>
          <p:nvPr/>
        </p:nvSpPr>
        <p:spPr>
          <a:xfrm>
            <a:off x="108000" y="2060640"/>
            <a:ext cx="892800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Megelőző vagyonvédel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Hasznos szabadidő-eltölté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Konfliktusok és az erőszak 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megelőzése, 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kezelé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Szenvedélyek, alkohol- és drogprevenci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Média és az internet veszély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C:\Users\USER\AppData\Local\Microsoft\Windows\Temporary Internet Files\Content.IE5\14ULWKE9\MC900212799[1].wmf"/>
          <p:cNvPicPr/>
          <p:nvPr/>
        </p:nvPicPr>
        <p:blipFill>
          <a:blip r:embed="rId1"/>
          <a:stretch/>
        </p:blipFill>
        <p:spPr>
          <a:xfrm flipH="1">
            <a:off x="7458120" y="3408480"/>
            <a:ext cx="1271520" cy="1092240"/>
          </a:xfrm>
          <a:prstGeom prst="rect">
            <a:avLst/>
          </a:prstGeom>
          <a:ln w="0">
            <a:noFill/>
          </a:ln>
        </p:spPr>
      </p:pic>
      <p:sp>
        <p:nvSpPr>
          <p:cNvPr id="389" name="Szövegdoboz 1"/>
          <p:cNvSpPr/>
          <p:nvPr/>
        </p:nvSpPr>
        <p:spPr>
          <a:xfrm>
            <a:off x="1116000" y="395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8" descr="C:\Users\USER\AppData\Local\Microsoft\Windows\Temporary Internet Files\Content.IE5\OOLXXJE2\MC900078765[1].wmf"/>
          <p:cNvPicPr/>
          <p:nvPr/>
        </p:nvPicPr>
        <p:blipFill>
          <a:blip r:embed="rId2"/>
          <a:stretch/>
        </p:blipFill>
        <p:spPr>
          <a:xfrm>
            <a:off x="204840" y="-15840"/>
            <a:ext cx="1411200" cy="1271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Users\USER\AppData\Local\Microsoft\Windows\Temporary Internet Files\Content.IE5\7ZRC1L4U\MC900360530[1].wmf"/>
          <p:cNvPicPr/>
          <p:nvPr/>
        </p:nvPicPr>
        <p:blipFill>
          <a:blip r:embed="rId3"/>
          <a:stretch/>
        </p:blipFill>
        <p:spPr>
          <a:xfrm>
            <a:off x="176040" y="5203800"/>
            <a:ext cx="1411560" cy="868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C:\Users\USER\AppData\Local\Microsoft\Windows\Temporary Internet Files\Content.IE5\OOLXXJE2\MC900361044[1].wmf"/>
          <p:cNvPicPr/>
          <p:nvPr/>
        </p:nvPicPr>
        <p:blipFill>
          <a:blip r:embed="rId4"/>
          <a:stretch/>
        </p:blipFill>
        <p:spPr>
          <a:xfrm>
            <a:off x="358920" y="3408480"/>
            <a:ext cx="1101600" cy="1092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C:\Users\USER\AppData\Local\Microsoft\Windows\Temporary Internet Files\Content.IE5\14ULWKE9\MC900360512[1].wmf"/>
          <p:cNvPicPr/>
          <p:nvPr/>
        </p:nvPicPr>
        <p:blipFill>
          <a:blip r:embed="rId5"/>
          <a:stretch/>
        </p:blipFill>
        <p:spPr>
          <a:xfrm>
            <a:off x="343080" y="1844640"/>
            <a:ext cx="1272960" cy="782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C:\Users\USER\AppData\Local\Microsoft\Windows\Temporary Internet Files\Content.IE5\OOLXXJE2\MC900430091[1].wmf"/>
          <p:cNvPicPr/>
          <p:nvPr/>
        </p:nvPicPr>
        <p:blipFill>
          <a:blip r:embed="rId6"/>
          <a:stretch/>
        </p:blipFill>
        <p:spPr>
          <a:xfrm>
            <a:off x="6621480" y="2220840"/>
            <a:ext cx="210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zövegdoboz 1"/>
          <p:cNvSpPr/>
          <p:nvPr/>
        </p:nvSpPr>
        <p:spPr>
          <a:xfrm>
            <a:off x="1979640" y="312840"/>
            <a:ext cx="68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églalap 2"/>
          <p:cNvSpPr/>
          <p:nvPr/>
        </p:nvSpPr>
        <p:spPr>
          <a:xfrm>
            <a:off x="179280" y="1379520"/>
            <a:ext cx="864072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2.1. Megelőző vagyon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Iskolai prevenciós programok – a DADA és ELLENSZER programok működtetése az általános és középiskolákb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A pedagógusok és gyermekvédelmi felelősök bűnmegelőzési képzésének bevezet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A pedagógusok és gyermekvédelmi felelősök bűnmegelőzési továbbképzésének bevezet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A bűnmegelőzés integrálása a családi és iskolai napok rendezvényeinek programjába,</a:t>
            </a:r>
            <a:r>
              <a:rPr b="0" lang="hu-H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a szociális és gyermekjóléti ellátórendszerben folyó programokb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Comic Sans MS"/>
              </a:rPr>
              <a:t>A hazai jó gyakorlatok összegyűjtése és népszerűsítése a gyermek- és ifjúságvédelem területé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8" descr="C:\Users\USER\AppData\Local\Microsoft\Windows\Temporary Internet Files\Content.IE5\OOLXXJE2\MC900078765[1].wmf"/>
          <p:cNvPicPr/>
          <p:nvPr/>
        </p:nvPicPr>
        <p:blipFill>
          <a:blip r:embed="rId1"/>
          <a:stretch/>
        </p:blipFill>
        <p:spPr>
          <a:xfrm>
            <a:off x="395280" y="0"/>
            <a:ext cx="14112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2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20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2000"/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zövegdoboz 1"/>
          <p:cNvSpPr/>
          <p:nvPr/>
        </p:nvSpPr>
        <p:spPr>
          <a:xfrm>
            <a:off x="1979640" y="312840"/>
            <a:ext cx="68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églalap 2"/>
          <p:cNvSpPr/>
          <p:nvPr/>
        </p:nvSpPr>
        <p:spPr>
          <a:xfrm>
            <a:off x="208080" y="1841400"/>
            <a:ext cx="864072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2.2. Hasznos szabadidő-eltöl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testnevelő tanárok és edzők bűnmegelőzési képzésének és továbbképzésének beveze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bűnmegelőzés beemelése az állami, egyházi és önkormányzati gyermektáborok programjai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z időskorúak aktív bevonásának vizsgá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8" descr="C:\Users\USER\AppData\Local\Microsoft\Windows\Temporary Internet Files\Content.IE5\OOLXXJE2\MC900078765[1].wmf"/>
          <p:cNvPicPr/>
          <p:nvPr/>
        </p:nvPicPr>
        <p:blipFill>
          <a:blip r:embed="rId1"/>
          <a:stretch/>
        </p:blipFill>
        <p:spPr>
          <a:xfrm>
            <a:off x="395280" y="0"/>
            <a:ext cx="14112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250" autoRev="1" fill="hold"/>
                                        <p:tgtEl>
                                          <p:spTgt spid="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1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zövegdoboz 1"/>
          <p:cNvSpPr/>
          <p:nvPr/>
        </p:nvSpPr>
        <p:spPr>
          <a:xfrm>
            <a:off x="1979640" y="312840"/>
            <a:ext cx="68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églalap 2"/>
          <p:cNvSpPr/>
          <p:nvPr/>
        </p:nvSpPr>
        <p:spPr>
          <a:xfrm>
            <a:off x="208080" y="1841400"/>
            <a:ext cx="864072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2.3. Konfliktusok és az erőszak megelőzése, kez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Módszertan készítése az iskolai erőszak hatékony megelőzése érdeké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bűnmegelőzési ismeretek integrálása már működő felzárkózási programok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Iskolai mediátorok kép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család védelmi funkciójának növ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8" descr="C:\Users\USER\AppData\Local\Microsoft\Windows\Temporary Internet Files\Content.IE5\OOLXXJE2\MC900078765[1].wmf"/>
          <p:cNvPicPr/>
          <p:nvPr/>
        </p:nvPicPr>
        <p:blipFill>
          <a:blip r:embed="rId1"/>
          <a:stretch/>
        </p:blipFill>
        <p:spPr>
          <a:xfrm>
            <a:off x="395280" y="0"/>
            <a:ext cx="14112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zövegdoboz 1"/>
          <p:cNvSpPr/>
          <p:nvPr/>
        </p:nvSpPr>
        <p:spPr>
          <a:xfrm>
            <a:off x="1979640" y="312840"/>
            <a:ext cx="68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Comic Sans MS"/>
              </a:rPr>
              <a:t>Gyermek- és ifjúságvéde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églalap 2"/>
          <p:cNvSpPr/>
          <p:nvPr/>
        </p:nvSpPr>
        <p:spPr>
          <a:xfrm>
            <a:off x="208080" y="1841400"/>
            <a:ext cx="86407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a3130"/>
                </a:solidFill>
                <a:latin typeface="Comic Sans MS"/>
                <a:ea typeface="Times New Roman"/>
              </a:rPr>
              <a:t>8.2.4. Szenvedélybetegségek megelőzése, alkohol- és drogpreven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Szórakozóhely-ellenőrzések fok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z ELLEN-SZER programhoz tananyag kész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z élménypedagógia módszerének népsze-rűsítése, trénerképzések tartása tanárok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8" descr="C:\Users\USER\AppData\Local\Microsoft\Windows\Temporary Internet Files\Content.IE5\OOLXXJE2\MC900078765[1].wmf"/>
          <p:cNvPicPr/>
          <p:nvPr/>
        </p:nvPicPr>
        <p:blipFill>
          <a:blip r:embed="rId1"/>
          <a:stretch/>
        </p:blipFill>
        <p:spPr>
          <a:xfrm>
            <a:off x="395280" y="0"/>
            <a:ext cx="14112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25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10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10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4" dur="10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9:23:05Z</dcterms:created>
  <dc:creator>borbiro</dc:creator>
  <dc:description/>
  <dc:language>en-US</dc:language>
  <cp:lastModifiedBy>Hatala József dr.</cp:lastModifiedBy>
  <cp:lastPrinted>2013-10-16T05:42:48Z</cp:lastPrinted>
  <dcterms:modified xsi:type="dcterms:W3CDTF">2015-09-08T12:00:33Z</dcterms:modified>
  <cp:revision>177</cp:revision>
  <dc:subject/>
  <dc:title>A Társadalmi bűnmegelőzés nemzeti stratégiája</dc:title>
</cp:coreProperties>
</file>