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C33F-4C36-4872-AC08-2CE650FF616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4C02-760D-46A7-8C16-42E729C5BBB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20A7-7E0A-4DB1-A895-755AA01ADAC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obotzsaru-Neo Integrált Ügyviteli és Ügyfeldolgozó Rendszer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helyszíni szemle, bejelentési, feljelentési, tanúkihallgatási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jegyzőkönyveinek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ratmintáiban figyelmeztetés  szerepel az áldozatsegítő szolgálat szolgáltatásairól, az igénybe vehető támogatásokról, továbbá  az áldozatsegítő támogatások igénybevételéhez szükséges igazolás kiállításának lehetőségérő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enti jegyzőkönyvek figyelmeztető felhívásai 2009. februártól kiegészültek az alábbi szöveggel” „Az áldozatsegítés lehetőségéről a tájékoztatást megkaptam, a területi igazságügyi hivatal áldozatsegítő szolgálata által kiadott tájékoztatót a nyomozó hatóság tagjától átvettem. Kérem – nem kérem, hogy a nyomozó hatóság részemre az áldozatsegítő támogatások igénybevételéhez szükséges igazolást kiállít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4D49-FB48-4391-B2FD-C567F20790F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05F2-AD8E-4A97-AB8F-6F24C76A8BE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DA92-A418-470B-B1C8-7CAF2E95D41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3804-4DEC-474C-88E6-62DEE6BEDD7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D27C-55C9-4FE5-A4EF-DB80C1D568E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82B8-FD24-4E6C-9933-AD838AA8C3A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FA24-06ED-45D0-9054-10A1DAB220B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E485-4AE7-4BA3-81C1-AF611130DF7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A rendőrség feladatrendszerének főbb prioritásai: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űncselekmények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megelőzés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, megszakítása , felderít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989.08.01: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Rendőrségi Bűnmegelőzési Szolgálatának létrejött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(ORFK) speciális bűnmegelőzési feladatok végrehajtásá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990.megyei bűnmegelőzési egységek létrejötte: Feladatuk: bűnügyi adatok rendszerezése, elemzése, értékelése, prevenciót segítő, összegző, tájékoztató anyagok elkészíté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A rendőrségi bűnmegelőzés főbb iránya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yermek –és ifjúságvéd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ábítószer megelőz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9999"/>
                </a:solidFill>
                <a:latin typeface="Arial"/>
              </a:rPr>
              <a:t>Áldozatvéd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egelőző vagyon -és gazdaságvéd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zterületek biztonsá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rnyezet és  természeti értékek védel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isebbség kezel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1999 óta beszélhetünk rendőrségi áldozatvédelemről,belső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normák életbelépése a rendőrség áldozatvédelmi feladatairó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Áldozatvédelmi Irodák kialakítása (2005-ben 44 iro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Országos referensi hálózat kialakítása a bűnmegelőzési szolgálatokon belül (mára az összekötő tisztek száma meghaladja a 200 fő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Áldozatvédelem feladata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ljárás különböző szakaszaiban való tájékoztatás, információval történő ellát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árenyhítéssel kapcsolatos lehetőségek, technikai feltételek átad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egítő szervezetek irányába való közvetítés( különböző áldozati csoportokra szakosodott civil szervezetek tapasztalatai jól hasznosíthatóak az áldozatvédelmi politikáb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Ismételt áldozattá válás kockázatának csökkent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9999"/>
                </a:solidFill>
                <a:latin typeface="Arial"/>
              </a:rPr>
              <a:t>Potenciális áldozati kör védelmének megszervez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riminológiai veszélyeztetettségük kapcsán egyik legfontosabb tevékenységünk a kiemelt kockázatú csoportok áldozattá válásának megelőzé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iemelt kockázatú áldozati csoporthoz tartozónak kell tekinteni azon személyeket, akik életkori, fizikai vagy mentális sajátosságukból adódóan valamint a társadalomban betöltött szerepüknél fogva az átlagnál sérülékenyebbek, kiszolgáltatottabbak, ezáltal fokozottabban veszélyeztetettek bizonyos bűncselekményekkel szemben. Ezen csoport tagja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nő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gyermek- és fiatalkorú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60 év felettie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ülterületen élő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hajléktalano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fogyatékkal élő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veszélyeztetett munkakörök, mint például pénzintézetek, lottózók, benzinkutak, posta alkalmazotta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uristá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Áldozattá válásuk megelőzése érdekében a Rendőrség bűnügyi, bűnmegelőzési és közbiztonsági állományának összehangoltan, egységesen kell fellépnie, ennek érdekében 2010 májusában módszertani útmutatót adtunk 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időskorúak sérelmére elkövetett bcs-k megelőzése, felderítése érdekében először 2005-ben született ORFK Intézkedés (49/2005. (XI.3.), amelyet 2009-ben egy olyan korszerűbb Intézkedési Terv váltott, amely már konkrét feladatokat határoz meg a területi szervek számára az idősek áldozattá válásának elkerülése érdekében: ebben szerepel többek között a veszélyeztetett célcsoport felmérése, kiemelt területek, kistérségi települések kockázatelemzése, ismert bűnözői csoportok fokozott figyelemmel kísérése, rendőri jelenlét idő-térbeli kiterjesztése, polgárőrség bevonása a prevenciós munkába, folyamatos értékelő, elemző munka (kéthavonta erőszakos bcs-k elemzése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8FA8-D436-4FF8-A2BB-7BC49CBC098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A rendőrség feladatrendszerének főbb prioritásai: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űncselekmények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megelőzés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, megszakítása , felderít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989.08.01: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Rendőrségi Bűnmegelőzési Szolgálatának létrejött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(ORFK) speciális bűnmegelőzési feladatok végrehajtásá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990.megyei bűnmegelőzési egységek létrejötte: Feladatuk: bűnügyi adatok rendszerezése, elemzése, értékelése, prevenciót segítő, összegző, tájékoztató anyagok elkészíté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A rendőrségi bűnmegelőzés főbb iránya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yermek –és ifjúságvéd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ábítószer megelőz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9999"/>
                </a:solidFill>
                <a:latin typeface="Arial"/>
              </a:rPr>
              <a:t>Áldozatvéd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egelőző vagyon -és gazdaságvéd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zterületek biztonsá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rnyezet és  természeti értékek védel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isebbség kezel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1999 óta beszélhetünk rendőrségi áldozatvédelemről,belső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normák életbelépése a rendőrség áldozatvédelmi feladatairó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Áldozatvédelmi Irodák kialakítása (2005-ben 44 iro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Országos referensi hálózat kialakítása a bűnmegelőzési szolgálatokon belül (mára az összekötő tisztek száma meghaladja a 200 fő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Áldozatvédelem feladata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ljárás különböző szakaszaiban való tájékoztatás, információval történő ellát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árenyhítéssel kapcsolatos lehetőségek, technikai feltételek átad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egítő szervezetek irányába való közvetítés( különböző áldozati csoportokra szakosodott civil szervezetek tapasztalatai jól hasznosíthatóak az áldozatvédelmi politikáb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Ismételt áldozattá válás kockázatának csökkent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9999"/>
                </a:solidFill>
                <a:latin typeface="Arial"/>
              </a:rPr>
              <a:t>Potenciális áldozati kör védelmének megszervez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riminológiai veszélyeztetettségük kapcsán egyik legfontosabb tevékenységünk a kiemelt kockázatú csoportok áldozattá válásának megelőzé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iemelt kockázatú áldozati csoporthoz tartozónak kell tekinteni azon személyeket, akik életkori, fizikai vagy mentális sajátosságukból adódóan valamint a társadalomban betöltött szerepüknél fogva az átlagnál sérülékenyebbek, kiszolgáltatottabbak, ezáltal fokozottabban veszélyeztetettek bizonyos bűncselekményekkel szemben. Ezen csoport tagja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nő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gyermek- és fiatalkorú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60 év felettie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ülterületen élő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hajléktalano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fogyatékkal élő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veszélyeztetett munkakörök, mint például pénzintézetek, lottózók, benzinkutak, posta alkalmazotta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uristá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Áldozattá válásuk megelőzése érdekében a Rendőrség bűnügyi, bűnmegelőzési és közbiztonsági állományának összehangoltan, egységesen kell fellépnie, ennek érdekében 2010 májusában módszertani útmutatót adtunk 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időskorúak sérelmére elkövetett bcs-k megelőzése, felderítése érdekében először 2005-ben született ORFK Intézkedés (49/2005. (XI.3.), amelyet 2009-ben egy olyan korszerűbb Intézkedési Terv váltott, amely már konkrét feladatokat határoz meg a területi szervek számára az idősek áldozattá válásának elkerülése érdekében: ebben szerepel többek között a veszélyeztetett célcsoport felmérése, kiemelt területek, kistérségi települések kockázatelemzése, ismert bűnözői csoportok fokozott figyelemmel kísérése, rendőri jelenlét idő-térbeli kiterjesztése, polgárőrség bevonása a prevenciós munkába, folyamatos értékelő, elemző munka (kéthavonta erőszakos bcs-k elemzése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0EF9-52E2-4B86-9AD3-221D8FF379E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F8C3-8521-470E-B02A-7FA9791E3B2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888B-EE36-41B5-99A0-5A7599B15B0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64B4-BD16-4395-8DE8-02AB48685BF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5CD7-048F-4E99-9D04-34967A546A6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F218-B550-4D6B-B990-69322F594AA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A45-267D-4D13-BC11-884F8FBC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A82-4757-43C2-95F0-2269FCCD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567-DC7F-453F-8FDB-DC37527F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ABE-87B5-498D-A235-E74E8201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DF5-62AB-4719-A997-36F0F31E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806-A0E4-4144-83F9-569FFAAA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184-FCB0-45F5-9040-9CE143BF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E90-45F4-4FEE-9444-1589BA99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460-84BB-440E-9696-660B05E8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C88-27DC-4880-B7F8-53347DBB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AF8-4590-465B-8499-9E5E0861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E6C-E247-4EB9-88A2-5758F71C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787C-A97E-4A3E-A49C-23F8C1376BB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hyperlink" Target="mailto:barabasi@orfk.police.hu" TargetMode="External"/><Relationship Id="rId7" Type="http://schemas.openxmlformats.org/officeDocument/2006/relationships/hyperlink" Target="mailto:barabasi@orfk.police.hu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6692-8E3D-42F6-ACAF-E0B469F7B7B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u_terkep"/>
          <p:cNvPicPr/>
          <p:nvPr/>
        </p:nvPicPr>
        <p:blipFill>
          <a:blip r:embed="rId1"/>
          <a:stretch/>
        </p:blipFill>
        <p:spPr>
          <a:xfrm>
            <a:off x="5857920" y="914400"/>
            <a:ext cx="3286080" cy="2190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 Magyar Köztársaság Rendőr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u_címer"/>
          <p:cNvPicPr/>
          <p:nvPr/>
        </p:nvPicPr>
        <p:blipFill>
          <a:blip r:embed="rId2"/>
          <a:stretch/>
        </p:blipFill>
        <p:spPr>
          <a:xfrm>
            <a:off x="0" y="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ímer_v"/>
          <p:cNvPicPr/>
          <p:nvPr/>
        </p:nvPicPr>
        <p:blipFill>
          <a:blip r:embed="rId3"/>
          <a:stretch/>
        </p:blipFill>
        <p:spPr>
          <a:xfrm>
            <a:off x="8508960" y="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szolg+véd"/>
          <p:cNvPicPr/>
          <p:nvPr/>
        </p:nvPicPr>
        <p:blipFill>
          <a:blip r:embed="rId4"/>
          <a:stretch/>
        </p:blipFill>
        <p:spPr>
          <a:xfrm>
            <a:off x="609480" y="5105520"/>
            <a:ext cx="4829400" cy="91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ímer_á"/>
          <p:cNvPicPr/>
          <p:nvPr/>
        </p:nvPicPr>
        <p:blipFill>
          <a:blip r:embed="rId5"/>
          <a:stretch/>
        </p:blipFill>
        <p:spPr>
          <a:xfrm>
            <a:off x="1600200" y="1574640"/>
            <a:ext cx="2541600" cy="330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EU-hun"/>
          <p:cNvPicPr/>
          <p:nvPr/>
        </p:nvPicPr>
        <p:blipFill>
          <a:blip r:embed="rId6"/>
          <a:stretch/>
        </p:blipFill>
        <p:spPr>
          <a:xfrm>
            <a:off x="6084720" y="3645000"/>
            <a:ext cx="2665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C9FD-3F98-4981-88E7-DB41F4CCBCA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dikáto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380880" y="1341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611280" y="1413000"/>
            <a:ext cx="806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emélyes veszélyeztetettségre utaló jel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dozat személyes jellemzői  – a büntető eljárás megindulásakor    a sértett a 18. életévet még nem töltötte be, automatikusan különleges bánásmódot igénylőként kell kezeln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éb személyes jellemzők: életkora (időskorú), neme és nemi identitása vagy annak kifejezése, etnikuma, faja, vallása, szexuális irányultsága, egészségi állapota, tartózkodásra jogosultsága, kommunikációs nehézségei, az elkövetőhöz fűződő kapcsolata vagy tőle való függősége és a bűncselekményekkel kapcsolatos korábbi tapasztal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gyatékossággal élő személy. /Adatlap külön felsorolja.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97AD-5B85-4094-A531-72E144C58C5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dikátor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900000" y="1268280"/>
            <a:ext cx="7417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ockázatokra utaló jel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űncselekmény típusa, motivációja, beleértve az áldozat személyes jellemzői miatti hátrányos megkülönböztetést vagy előítéletet (pl. gyűlölet-bűncselekmény, fogyatékossággal élő áldoza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űncselekmény körülmény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űncselekmény súlyossága, melynek folytán a sértett jelentős sérelmet szenvedett (pl. emberkereskedelem, terrorizmus, szervezett bűnöz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dozat és az elkövető közötti bármilyen olyan kapcsolat, amely az áldozatot különösen sebezhetővé teszi (különös figyelemmel nemi erkölcsi elleni vagy a közeli hozzátartozók közötti erőszakra, és a szexuális erőszak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90B1-816D-4DDF-A2BA-5FD6E255B48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egfőbb Ügyészi rendel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9"/>
          <p:cNvSpPr/>
          <p:nvPr/>
        </p:nvSpPr>
        <p:spPr>
          <a:xfrm>
            <a:off x="900000" y="1268280"/>
            <a:ext cx="7417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 szerint ilyen személynek tekinthető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űnszervezetben elkövetett bűncselekmény sértettj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kinek sérelmére hozzátartozója követett el bűncselekmény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érelmére elkövetett bűncselekmény miatt ellenségessé váló lakókörnyezetben élő sértet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llássérült, a siketvak, vak, beszédképtelen, kóros elmeállapotú sértet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élet, a testi épség és az egészség elleni bűncselekmények (Btk. XV. fejez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nemi élet szabadsága és a nemi erkölcs elleni bűncselekmények (Btk. XIX. fejezet) sértettje, valam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apcsolati erőszak (Btk. 212/A. §), a családi jogállás megsértése (Btk. 213. §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D386-BB2B-4552-BAEB-B346D125CF51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532720" cy="761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Teendők a különleges bánásmódot igénylő sérte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hu_címer"/>
          <p:cNvPicPr/>
          <p:nvPr/>
        </p:nvPicPr>
        <p:blipFill>
          <a:blip r:embed="rId3"/>
          <a:stretch/>
        </p:blipFill>
        <p:spPr>
          <a:xfrm>
            <a:off x="324000" y="189000"/>
            <a:ext cx="617400" cy="761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611280" y="950760"/>
            <a:ext cx="88200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60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684360" y="950760"/>
            <a:ext cx="8280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értettre vonatkozó különös rendelkezések”  Be. 62 B. és 62. C § alapjá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gyelemmel kell lenni arra, hogy a sértett és a terhelt szükségtelenü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 találkozzon egymás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pld. idézés más helyiségbe, időpontra, szembesít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olyan eljárási cselekményeknél, ahol sértett jelenléte kötelező, úgy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ll előkészíteni és végrehajtani, hogy lehetőség szerint n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smétlődj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omozó hatóságnak az eljárás során sértett lehető legnagyo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íméletével kell eljár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14. életév alatti kihallgatása kép- vagy hangfelvevővel, zártcél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vközlő útján történő kihallgatás, e célra kialakított helyisé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 sértettet érintő eljárási cselekményeket, ha az eljárás érdekeit n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érti, a sértett kíméletével, lehetőség szerint az igényeinek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gyelembevételével kell előkészíteni és végrehajta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pld. sértett jelenléte kötelező, ismétlésre ne kerüljön sor, va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esítést küld és a sértett saját felelősségre dö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értetti minőség megállapításának kezdeményezésével, kapcsol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ratokat, a nyomozó hatóság az iratok között elkülönítve, zár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ze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343B-8C10-4A19-B259-9188456ACF1B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Zártan kez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>
            <a:off x="838080" y="189864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e. 62/C. § (5)és BM rendelet 3. § (2) bekezdés előír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ülönleges bánásmód megalapozásának jogalapját vé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ermekvédelmi jelző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dozatvédelmi referens szintén a nyomozó hatóság ügyben eljáró tagjának kell tekinteni, ha az adott büntetőeljárás során feladat- és hatáskörébe tartozó, az áldozatok védelmét igénylő intézkedési kötelezettség szüksége merül f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obotzsaru Neo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11EE-B644-4610-834A-CAA721A148F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Teendők a különleges bánásmódot igénylő sérte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9"/>
          <p:cNvSpPr/>
          <p:nvPr/>
        </p:nvSpPr>
        <p:spPr>
          <a:xfrm>
            <a:off x="971640" y="1197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468360" y="2060640"/>
            <a:ext cx="813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értett kíméletének biztosítására alkalmas további lehetőség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írásbeli vallomástétel lehetőségének biztosítása (Be. 85. § (5) bek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anúvédelem intézményrendszere (Be. VII. fejezet, III. Cí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embesítés mellőzésének lehetősége (Be. 124. § (2) bekezd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eljelentő tanúkénti kihallgatásának mellőzése (Be. 181. § (3) bekezd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értesítés mellőzése az eljárási cselekményekről (185. §. (1) bekezd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BA17-DC96-4D0F-8989-35142CC8C40A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Panaszj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971640" y="1197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50920" y="148428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900000" y="2097720"/>
            <a:ext cx="720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bban az esetben ha egy sértett kifogásolja, hogy az eljáró hatóság nem alkalmazta a különleges bánásmódot igénylő sértettek számára biztosított jogintézményeket, nem vette figyelembe személyes szükségleteit, akkor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Be. 196. §-a alapján panasszal élh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EAE0-21FA-4B95-AE3E-18EB2D8B9703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orfkcímer"/>
          <p:cNvPicPr/>
          <p:nvPr/>
        </p:nvPicPr>
        <p:blipFill>
          <a:blip r:embed="rId1"/>
          <a:stretch/>
        </p:blipFill>
        <p:spPr>
          <a:xfrm>
            <a:off x="3780000" y="5373720"/>
            <a:ext cx="5113080" cy="1484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öszönöm a megtisztelő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paragrafus"/>
          <p:cNvPicPr/>
          <p:nvPr/>
        </p:nvPicPr>
        <p:blipFill>
          <a:blip r:embed="rId5"/>
          <a:stretch/>
        </p:blipFill>
        <p:spPr>
          <a:xfrm>
            <a:off x="7596360" y="98100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8"/>
          <p:cNvSpPr/>
          <p:nvPr/>
        </p:nvSpPr>
        <p:spPr>
          <a:xfrm>
            <a:off x="395280" y="11970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2484360" y="3368520"/>
            <a:ext cx="614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arabás Ildikó c. r. alezr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RFK Bűnügyi Főigazgatós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űnügyi Főosztá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űnmegelőzési Osztá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arabasi@orfk.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olice.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l: 33-07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obil+36/20-451-05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A88E-FD11-4E58-B8E6-239D604A56C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1360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hu-HU" sz="2400" spc="-1" strike="noStrike">
                <a:solidFill>
                  <a:srgbClr val="000066"/>
                </a:solidFill>
                <a:latin typeface="Arial"/>
              </a:rPr>
              <a:t>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Ha a társadalom nem tudja megvédeni egyes állampolgárait attól, hogy bűncselekmények áldozataivá váljanak, akkor legalább, ha bajba kerültek, próbáljunk meg rajtuk segíteni.”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hu_címer"/>
          <p:cNvPicPr/>
          <p:nvPr/>
        </p:nvPicPr>
        <p:blipFill>
          <a:blip r:embed="rId2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ímer_v"/>
          <p:cNvPicPr/>
          <p:nvPr/>
        </p:nvPicPr>
        <p:blipFill>
          <a:blip r:embed="rId3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paragrafus"/>
          <p:cNvPicPr/>
          <p:nvPr/>
        </p:nvPicPr>
        <p:blipFill>
          <a:blip r:embed="rId4"/>
          <a:stretch/>
        </p:blipFill>
        <p:spPr>
          <a:xfrm>
            <a:off x="7451640" y="278136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395280" y="3141720"/>
            <a:ext cx="8313840" cy="31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idősek tájékoztatása"/>
          <p:cNvPicPr/>
          <p:nvPr/>
        </p:nvPicPr>
        <p:blipFill>
          <a:blip r:embed="rId5"/>
          <a:stretch/>
        </p:blipFill>
        <p:spPr>
          <a:xfrm>
            <a:off x="2556000" y="3068640"/>
            <a:ext cx="32400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BD60-9745-4721-8C66-AAE637EF21B3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1360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u_címer"/>
          <p:cNvPicPr/>
          <p:nvPr/>
        </p:nvPicPr>
        <p:blipFill>
          <a:blip r:embed="rId2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ímer_v"/>
          <p:cNvPicPr/>
          <p:nvPr/>
        </p:nvPicPr>
        <p:blipFill>
          <a:blip r:embed="rId3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paragrafus"/>
          <p:cNvPicPr/>
          <p:nvPr/>
        </p:nvPicPr>
        <p:blipFill>
          <a:blip r:embed="rId4"/>
          <a:stretch/>
        </p:blipFill>
        <p:spPr>
          <a:xfrm>
            <a:off x="7451640" y="278136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395280" y="3141720"/>
            <a:ext cx="8313840" cy="31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comic"/>
              </a:rPr>
              <a:t>A különleges bánásmódot igénylő sérte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CFDB-C4CA-4740-AD55-06110DD529CA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11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Áldozat védelmét szolgáló jogok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2012/29/EU irányelvben</a:t>
            </a: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971640" y="1197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220680" y="1517760"/>
            <a:ext cx="8420040" cy="56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ésedelem nélküli kihallgatáshoz való j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ihallgatások számának minimalizálásához való j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jogi képviselőhöz és támogató személyhez való j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rvosi vizsgálatok számának minimalizálásához való j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agánélet védelméhez való j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peciális védelmi szükségletet mi d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önti 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dozat életk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dozat vélemén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űncselekmény típ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dozat egyéni jellemző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specifikus védelmi szükségletű áldozatok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jogai a nyomozás so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hallgatás erre a célra átalakított helyiségben, erre kiképzett szakemberek révén  ugyanazon személy által, aki az áldozattal azonos nem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specifikus védelmi szükségletű áldozatok joga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a bírósági tárgyalás so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dozat és elkövető közti vizuális kapcsolat elkerü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dozat személyes jelenlét nélküli meghallga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ükségtelen kérdések mellő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ilvánosság kizárása a tárgyalás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9043-2DCE-4085-9D12-13D9F0841623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Sértett jogai a Büntető Eljárás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971640" y="1197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79280" y="1557360"/>
            <a:ext cx="871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értettek a feljelentés megtételekor, szóban és írásban is tájékoztatást kapnak jogaikról, kötelességeikről, lehetőségeikről, a nyomozási munka folyamatáról, annak befejezésérő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ztosítva van az iratmegismerés, a felvilágosítás kérés, a polgári jogi igény előterjesztésének lehetősége, valamint az indítvány, észrevételtétel és a jogorvoslat lehetősége, az anyanyelv használatának jog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nyomozás befejeztével az őket érintő iratokba betekinthetnek, a bűnügyi iratokból jogszabály által meghatározott mértékben másolatot kérhetne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heti adatai nyílt vagy zártan történő kezelésé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rdekeinek védelmében védő járhat 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hallgatás kultúrált körülmények között, empátiával, humánusan, személyiségi jogok tiszteletben tartásával (másodlagos áld. válás megelőzé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ermekek meghallgatá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elyiségben csak azon személyek tartózkodnak, akiknek jelenlétét a jogszabályok lehetővé teszik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nyilvánosságra hozott információk ne sértsék az áldozatok és a hozzátartozóik magánéletét, emberi méltóságát, adatvédelmi, személyiségi jogai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4195-707B-4E88-98F3-32E7DBAED31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A rendőrség áldozatsegítő felada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971640" y="1197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79280" y="155736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ájékoztató átadása a sértettn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óbeli figyelemfelhív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gazolás kiállítá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gítő szervezetek irányába való közvetítés,  tájékoztatás az állami és civil áldozatsegítő szolgáltatásokról, azok elérhetőségérő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szóróanyagok"/>
          <p:cNvPicPr/>
          <p:nvPr/>
        </p:nvPicPr>
        <p:blipFill>
          <a:blip r:embed="rId6"/>
          <a:stretch/>
        </p:blipFill>
        <p:spPr>
          <a:xfrm>
            <a:off x="4643280" y="472428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ia számának hely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DA16-A30C-40D6-A674-0A8ACADB8AC1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orfkcímer"/>
          <p:cNvPicPr/>
          <p:nvPr/>
        </p:nvPicPr>
        <p:blipFill>
          <a:blip r:embed="rId1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paragrafus"/>
          <p:cNvPicPr/>
          <p:nvPr/>
        </p:nvPicPr>
        <p:blipFill>
          <a:blip r:embed="rId2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rendőrség áldozatsegítő feladatairól szóló 64/2015. BM rende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u_címer"/>
          <p:cNvPicPr/>
          <p:nvPr/>
        </p:nvPicPr>
        <p:blipFill>
          <a:blip r:embed="rId3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ímer_v"/>
          <p:cNvPicPr/>
          <p:nvPr/>
        </p:nvPicPr>
        <p:blipFill>
          <a:blip r:embed="rId4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aragrafus"/>
          <p:cNvPicPr/>
          <p:nvPr/>
        </p:nvPicPr>
        <p:blipFill>
          <a:blip r:embed="rId5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193680" y="1341360"/>
            <a:ext cx="8569440" cy="64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büntetőeljárásról szóló 1998. évi XIX. örvény (a továbbiakban: Be.) 62/C. § bevezette a különleges bánásmódot igénylő sértett fogalmá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M rendelet célja: megvédjék a sértetteket „a másodlagos és ismételt áldozattá válással, a megfélemlítéssel, valamint a megtorlással szemben, ideértve az áldozatok érzelmi vagy pszichés károsodásával szembeni védelmét, valamint méltóságuk megóvását a kihallgatásuk és vallomástételük során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értett a személyiségét és életviszonyait jellemző tényekre és körülmények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űncselekmény jellegére vagy ez elkövetés körülményeire tekintettel a meghatározó, hogy az be. során sajátos szükségletekkel rendelkez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.b.i. sértett fogalmának bevezetésével a cél nem az volt, hogy e személyek a kevésbé sérülékeny sértettekhez képest rendelkezzenek többletjogosítványokkal, hanem hatóságok számára írnak elő többletkötelezettsége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4770-300D-4C8C-ADA8-AA55E934A57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aragrafus"/>
          <p:cNvPicPr/>
          <p:nvPr/>
        </p:nvPicPr>
        <p:blipFill>
          <a:blip r:embed="rId1"/>
          <a:stretch/>
        </p:blipFill>
        <p:spPr>
          <a:xfrm>
            <a:off x="7629480" y="990720"/>
            <a:ext cx="1209600" cy="2514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orfkcímer"/>
          <p:cNvPicPr/>
          <p:nvPr/>
        </p:nvPicPr>
        <p:blipFill>
          <a:blip r:embed="rId2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paragrafus"/>
          <p:cNvPicPr/>
          <p:nvPr/>
        </p:nvPicPr>
        <p:blipFill>
          <a:blip r:embed="rId3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datlap a sértett egyéni értékeléséh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hu_címer"/>
          <p:cNvPicPr/>
          <p:nvPr/>
        </p:nvPicPr>
        <p:blipFill>
          <a:blip r:embed="rId4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ímer_v"/>
          <p:cNvPicPr/>
          <p:nvPr/>
        </p:nvPicPr>
        <p:blipFill>
          <a:blip r:embed="rId5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324000" y="134136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126792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468360" y="762120"/>
            <a:ext cx="795636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inden esetben kötelező a sértett  egyéni értéke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a feljelentést a sértett tes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értettet első alkalommal tanúként kihallgat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ntos: Az egyéni értékelés szükség szerint ismételhet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nyomozó hatóság az eljárás során folyamatosan vizsgálja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ogy a különleges bánásmódot igénylő sértetti minőség fenn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ll-e, ha nem az adatlapon jelz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kell határozatot hozni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ia számának hely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9E0D-50A7-4B3A-913D-76457D44C1D8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paragrafus"/>
          <p:cNvPicPr/>
          <p:nvPr/>
        </p:nvPicPr>
        <p:blipFill>
          <a:blip r:embed="rId1"/>
          <a:stretch/>
        </p:blipFill>
        <p:spPr>
          <a:xfrm>
            <a:off x="7631280" y="990720"/>
            <a:ext cx="1207800" cy="2509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orfkcímer"/>
          <p:cNvPicPr/>
          <p:nvPr/>
        </p:nvPicPr>
        <p:blipFill>
          <a:blip r:embed="rId2"/>
          <a:stretch/>
        </p:blipFill>
        <p:spPr>
          <a:xfrm>
            <a:off x="1890720" y="1290600"/>
            <a:ext cx="5348160" cy="5562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paragrafus"/>
          <p:cNvPicPr/>
          <p:nvPr/>
        </p:nvPicPr>
        <p:blipFill>
          <a:blip r:embed="rId3"/>
          <a:stretch/>
        </p:blipFill>
        <p:spPr>
          <a:xfrm>
            <a:off x="7553160" y="4267080"/>
            <a:ext cx="1209960" cy="2514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datlap a sértett egyéni értékeléséh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hu_címer"/>
          <p:cNvPicPr/>
          <p:nvPr/>
        </p:nvPicPr>
        <p:blipFill>
          <a:blip r:embed="rId4"/>
          <a:stretch/>
        </p:blipFill>
        <p:spPr>
          <a:xfrm>
            <a:off x="220680" y="152280"/>
            <a:ext cx="617400" cy="762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ímer_v"/>
          <p:cNvPicPr/>
          <p:nvPr/>
        </p:nvPicPr>
        <p:blipFill>
          <a:blip r:embed="rId5"/>
          <a:stretch/>
        </p:blipFill>
        <p:spPr>
          <a:xfrm>
            <a:off x="8302680" y="152280"/>
            <a:ext cx="635040" cy="762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24000" y="1267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tséget kizáróan megállapítsák, fennáll-e a másodlagos és ismételt áldozattá válá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értett (feljelentő) megfélemlítésének vagy vele szemben történő megtorlásnak a kockázat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ovábbá, hogy azonosítsa a sértett (feljelentő) támogatási és kommunikációs (nyelvi nehézségek, fogyatékossággal élő) szükséglete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47:41Z</dcterms:created>
  <dc:creator>nemetha</dc:creator>
  <dc:description/>
  <dc:language>en-US</dc:language>
  <cp:lastModifiedBy>Barabás Ildikó</cp:lastModifiedBy>
  <dcterms:modified xsi:type="dcterms:W3CDTF">2016-06-09T06:15:22Z</dcterms:modified>
  <cp:revision>191</cp:revision>
  <dc:subject/>
  <dc:title>The Police of the Republic of Hungary</dc:title>
</cp:coreProperties>
</file>