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127D-B26A-468F-9D62-1067814DA7BE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3FFF-0016-4C55-8D6D-49D8B939E4E8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20D0-F678-4EAB-A254-133455107D4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Robotzsaru-Neo Integrált Ügyviteli és Ügyfeldolgozó Rendszer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helyszíni szemle, bejelentési, feljelentési, tanúkihallgatási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jegyzőkönyveinek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iratmintáiban figyelmeztetés  szerepel az áldozatsegítő szolgálat szolgáltatásairól, az igénybe vehető támogatásokról, továbbá  az áldozatsegítő támogatások igénybevételéhez szükséges igazolás kiállításának lehetőségérő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Fenti jegyzőkönyvek figyelmeztető felhívásai 2009. februártól kiegészültek az alábbi szöveggel” „Az áldozatsegítés lehetőségéről a tájékoztatást megkaptam, a területi igazságügyi hivatal áldozatsegítő szolgálata által kiadott tájékoztatót a nyomozó hatóság tagjától átvettem. Kérem – nem kérem, hogy a nyomozó hatóság részemre az áldozatsegítő támogatások igénybevételéhez szükséges igazolást kiállít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C3C2-2678-4839-A691-D371D86194AE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15F2-A9C8-4ED7-A73B-7CFDC344D321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7491-CE2C-4429-9C2F-5D67CEE4BF27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8FFC-3028-4655-A82D-14A1D755895F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273C-8A9C-4020-ADDD-6D5AC47DFE7F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E025-86DB-4C95-ABF5-ACF27CFF5B0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B6DF-270F-430A-9778-2D35688FB8F0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12B7-5718-40BF-B08C-78C3217D4E06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A rendőrség feladatrendszerének főbb prioritásai: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űncselekmények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megelőzése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, megszakítása , felderíté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989.08.01: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Rendőrségi Bűnmegelőzési Szolgálatának létrejötte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(ORFK) speciális bűnmegelőzési feladatok végrehajtásá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990.megyei bűnmegelőzési egységek létrejötte: Feladatuk: bűnügyi adatok rendszerezése, elemzése, értékelése, prevenciót segítő, összegző, tájékoztató anyagok elkészíté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A rendőrségi bűnmegelőzés főbb iránya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Gyermek –és ifjúságvéd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ábítószer megelőz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9999"/>
                </a:solidFill>
                <a:latin typeface="Arial"/>
              </a:rPr>
              <a:t>Áldozatvéd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egelőző vagyon -és gazdaságvéd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özterületek biztonsá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örnyezet és  természeti értékek védel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kisebbség kezelé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1999 óta beszélhetünk rendőrségi áldozatvédelemről,belső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normák életbelépése a rendőrség áldozatvédelmi feladatairó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Áldozatvédelmi Irodák kialakítása (2005-ben 44 iro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Országos referensi hálózat kialakítása a bűnmegelőzési szolgálatokon belül (mára az összekötő tisztek száma meghaladja a 200 fő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Áldozatvédelem feladata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eljárás különböző szakaszaiban való tájékoztatás, információval történő ellát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árenyhítéssel kapcsolatos lehetőségek, technikai feltételek átadá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Segítő szervezetek irányába való közvetítés( különböző áldozati csoportokra szakosodott civil szervezetek tapasztalatai jól hasznosíthatóak az áldozatvédelmi politikáb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Ismételt áldozattá válás kockázatának csökkenté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9999"/>
                </a:solidFill>
                <a:latin typeface="Arial"/>
              </a:rPr>
              <a:t>Potenciális áldozati kör védelmének megszervezé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Kriminológiai veszélyeztetettségük kapcsán egyik legfontosabb tevékenységünk a kiemelt kockázatú csoportok áldozattá válásának megelőzé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Kiemelt kockázatú áldozati csoporthoz tartozónak kell tekinteni azon személyeket, akik életkori, fizikai vagy mentális sajátosságukból adódóan valamint a társadalomban betöltött szerepüknél fogva az átlagnál sérülékenyebbek, kiszolgáltatottabbak, ezáltal fokozottabban veszélyeztetettek bizonyos bűncselekményekkel szemben. Ezen csoport tagja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nő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gyermek- és fiatalkorú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60 év felettie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külterületen élő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hajléktalano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fogyatékkal élő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veszélyeztetett munkakörök, mint például pénzintézetek, lottózók, benzinkutak, posta alkalmazotta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turistá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Áldozattá válásuk megelőzése érdekében a Rendőrség bűnügyi, bűnmegelőzési és közbiztonsági állományának összehangoltan, egységesen kell fellépnie, ennek érdekében 2010 májusában módszertani útmutatót adtunk k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időskorúak sérelmére elkövetett bcs-k megelőzése, felderítése érdekében először 2005-ben született ORFK Intézkedés (49/2005. (XI.3.), amelyet 2009-ben egy olyan korszerűbb Intézkedési Terv váltott, amely már konkrét feladatokat határoz meg a területi szervek számára az idősek áldozattá válásának elkerülése érdekében: ebben szerepel többek között a veszélyeztetett célcsoport felmérése, kiemelt területek, kistérségi települések kockázatelemzése, ismert bűnözői csoportok fokozott figyelemmel kísérése, rendőri jelenlét idő-térbeli kiterjesztése, polgárőrség bevonása a prevenciós munkába, folyamatos értékelő, elemző munka (kéthavonta erőszakos bcs-k elemzése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F2AD-0E70-4FC0-B4DB-2519E753935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A rendőrség feladatrendszerének főbb prioritásai: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űncselekmények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megelőzése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, megszakítása , felderíté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989.08.01: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Rendőrségi Bűnmegelőzési Szolgálatának létrejötte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(ORFK) speciális bűnmegelőzési feladatok végrehajtásá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990.megyei bűnmegelőzési egységek létrejötte: Feladatuk: bűnügyi adatok rendszerezése, elemzése, értékelése, prevenciót segítő, összegző, tájékoztató anyagok elkészíté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A rendőrségi bűnmegelőzés főbb iránya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Gyermek –és ifjúságvéd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ábítószer megelőz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9999"/>
                </a:solidFill>
                <a:latin typeface="Arial"/>
              </a:rPr>
              <a:t>Áldozatvéd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egelőző vagyon -és gazdaságvéd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özterületek biztonsá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örnyezet és  természeti értékek védel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kisebbség kezelé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1999 óta beszélhetünk rendőrségi áldozatvédelemről,belső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normák életbelépése a rendőrség áldozatvédelmi feladatairó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Áldozatvédelmi Irodák kialakítása (2005-ben 44 iro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Országos referensi hálózat kialakítása a bűnmegelőzési szolgálatokon belül (mára az összekötő tisztek száma meghaladja a 200 fő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Áldozatvédelem feladata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eljárás különböző szakaszaiban való tájékoztatás, információval történő ellát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árenyhítéssel kapcsolatos lehetőségek, technikai feltételek átadá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Segítő szervezetek irányába való közvetítés( különböző áldozati csoportokra szakosodott civil szervezetek tapasztalatai jól hasznosíthatóak az áldozatvédelmi politikáb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Ismételt áldozattá válás kockázatának csökkenté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9999"/>
                </a:solidFill>
                <a:latin typeface="Arial"/>
              </a:rPr>
              <a:t>Potenciális áldozati kör védelmének megszervezé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Kriminológiai veszélyeztetettségük kapcsán egyik legfontosabb tevékenységünk a kiemelt kockázatú csoportok áldozattá válásának megelőzé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Kiemelt kockázatú áldozati csoporthoz tartozónak kell tekinteni azon személyeket, akik életkori, fizikai vagy mentális sajátosságukból adódóan valamint a társadalomban betöltött szerepüknél fogva az átlagnál sérülékenyebbek, kiszolgáltatottabbak, ezáltal fokozottabban veszélyeztetettek bizonyos bűncselekményekkel szemben. Ezen csoport tagja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nő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gyermek- és fiatalkorú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60 év felettie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külterületen élő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hajléktalano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fogyatékkal élő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veszélyeztetett munkakörök, mint például pénzintézetek, lottózók, benzinkutak, posta alkalmazotta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turistá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Áldozattá válásuk megelőzése érdekében a Rendőrség bűnügyi, bűnmegelőzési és közbiztonsági állományának összehangoltan, egységesen kell fellépnie, ennek érdekében 2010 májusában módszertani útmutatót adtunk k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időskorúak sérelmére elkövetett bcs-k megelőzése, felderítése érdekében először 2005-ben született ORFK Intézkedés (49/2005. (XI.3.), amelyet 2009-ben egy olyan korszerűbb Intézkedési Terv váltott, amely már konkrét feladatokat határoz meg a területi szervek számára az idősek áldozattá válásának elkerülése érdekében: ebben szerepel többek között a veszélyeztetett célcsoport felmérése, kiemelt területek, kistérségi települések kockázatelemzése, ismert bűnözői csoportok fokozott figyelemmel kísérése, rendőri jelenlét idő-térbeli kiterjesztése, polgárőrség bevonása a prevenciós munkába, folyamatos értékelő, elemző munka (kéthavonta erőszakos bcs-k elemzése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68C8-E7FC-4D5F-8ADC-D41D3315398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B4E8-16A7-40BA-AB52-8FFE2D353B42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5532-6B59-4620-A9FD-9922FAE4A79F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E63D-C5B7-4B4B-A335-E826F7E03A27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3560-6D44-4A6E-B3D8-CEB1970235B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92C8-0796-46CD-AB27-738BDF74CFDD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CB30-25FF-458B-BBB1-F183907A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D397-24F1-4E77-8DB8-2DD75C5F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A775-D252-4CE4-8977-1A6DDAC4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B416-CF4E-4D8B-90DC-037DED84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F4C-5493-440F-A8EE-33A58FAD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15F8-D2E8-410C-AF88-48564A1C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B1D-D066-4547-9DBA-E2710977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93DA-66ED-42B7-AC82-D8037AB3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DCB7-69D1-492B-9AE8-1B8EC766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63FC-B94A-4667-9E97-B7907CE5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4812-27ED-4711-BE4D-FE14D942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8BCE-9CE8-4DD9-BF5F-0C81A14F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0279-D26C-4077-97E1-76EE88DC6968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hyperlink" Target="mailto:barabasi@orfk.police.hu" TargetMode="External"/><Relationship Id="rId7" Type="http://schemas.openxmlformats.org/officeDocument/2006/relationships/hyperlink" Target="mailto:barabasi@orfk.police.hu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5340-8C07-43EE-9AB9-A3C5ADBE227A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u_terkep"/>
          <p:cNvPicPr/>
          <p:nvPr/>
        </p:nvPicPr>
        <p:blipFill>
          <a:blip r:embed="rId1"/>
          <a:stretch/>
        </p:blipFill>
        <p:spPr>
          <a:xfrm>
            <a:off x="5857920" y="914400"/>
            <a:ext cx="3286080" cy="2190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A Magyar Köztársaság Rendőrsé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u_címer"/>
          <p:cNvPicPr/>
          <p:nvPr/>
        </p:nvPicPr>
        <p:blipFill>
          <a:blip r:embed="rId2"/>
          <a:stretch/>
        </p:blipFill>
        <p:spPr>
          <a:xfrm>
            <a:off x="0" y="0"/>
            <a:ext cx="617400" cy="762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ímer_v"/>
          <p:cNvPicPr/>
          <p:nvPr/>
        </p:nvPicPr>
        <p:blipFill>
          <a:blip r:embed="rId3"/>
          <a:stretch/>
        </p:blipFill>
        <p:spPr>
          <a:xfrm>
            <a:off x="8508960" y="0"/>
            <a:ext cx="635040" cy="762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szolg+véd"/>
          <p:cNvPicPr/>
          <p:nvPr/>
        </p:nvPicPr>
        <p:blipFill>
          <a:blip r:embed="rId4"/>
          <a:stretch/>
        </p:blipFill>
        <p:spPr>
          <a:xfrm>
            <a:off x="609480" y="5105520"/>
            <a:ext cx="4829400" cy="915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címer_á"/>
          <p:cNvPicPr/>
          <p:nvPr/>
        </p:nvPicPr>
        <p:blipFill>
          <a:blip r:embed="rId5"/>
          <a:stretch/>
        </p:blipFill>
        <p:spPr>
          <a:xfrm>
            <a:off x="1600200" y="1574640"/>
            <a:ext cx="2541600" cy="3302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EU-hun"/>
          <p:cNvPicPr/>
          <p:nvPr/>
        </p:nvPicPr>
        <p:blipFill>
          <a:blip r:embed="rId6"/>
          <a:stretch/>
        </p:blipFill>
        <p:spPr>
          <a:xfrm>
            <a:off x="6084720" y="3645000"/>
            <a:ext cx="26654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ia számának hely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9E86-3D07-4E6B-A32A-02B2684F56A7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orfkcímer"/>
          <p:cNvPicPr/>
          <p:nvPr/>
        </p:nvPicPr>
        <p:blipFill>
          <a:blip r:embed="rId1"/>
          <a:stretch/>
        </p:blipFill>
        <p:spPr>
          <a:xfrm>
            <a:off x="1890720" y="1290600"/>
            <a:ext cx="5348160" cy="5562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paragrafus"/>
          <p:cNvPicPr/>
          <p:nvPr/>
        </p:nvPicPr>
        <p:blipFill>
          <a:blip r:embed="rId2"/>
          <a:stretch/>
        </p:blipFill>
        <p:spPr>
          <a:xfrm>
            <a:off x="7553160" y="4267080"/>
            <a:ext cx="1209960" cy="2514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ndikáto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hu_címer"/>
          <p:cNvPicPr/>
          <p:nvPr/>
        </p:nvPicPr>
        <p:blipFill>
          <a:blip r:embed="rId3"/>
          <a:stretch/>
        </p:blipFill>
        <p:spPr>
          <a:xfrm>
            <a:off x="220680" y="152280"/>
            <a:ext cx="617400" cy="762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címer_v"/>
          <p:cNvPicPr/>
          <p:nvPr/>
        </p:nvPicPr>
        <p:blipFill>
          <a:blip r:embed="rId4"/>
          <a:stretch/>
        </p:blipFill>
        <p:spPr>
          <a:xfrm>
            <a:off x="8302680" y="152280"/>
            <a:ext cx="635040" cy="762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paragrafus"/>
          <p:cNvPicPr/>
          <p:nvPr/>
        </p:nvPicPr>
        <p:blipFill>
          <a:blip r:embed="rId5"/>
          <a:stretch/>
        </p:blipFill>
        <p:spPr>
          <a:xfrm>
            <a:off x="7629480" y="990720"/>
            <a:ext cx="1209600" cy="2514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380880" y="1341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611280" y="1413000"/>
            <a:ext cx="8064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zemélyes veszélyeztetettségre utaló jel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áldozat személyes jellemzői  – a büntető eljárás megindulásakor    a sértett a 18. életévet még nem töltötte be, automatikusan különleges bánásmódot igénylőként kell kezeln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éb személyes jellemzők: életkora (időskorú), neme és nemi identitása vagy annak kifejezése, etnikuma, faja, vallása, szexuális irányultsága, egészségi állapota, tartózkodásra jogosultsága, kommunikációs nehézségei, az elkövetőhöz fűződő kapcsolata vagy tőle való függősége és a bűncselekményekkel kapcsolatos korábbi tapasztal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ogyatékossággal élő személy. /Adatlap külön felsorolja.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2ED0-137E-4B37-AF57-5BD02E9E5C0F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orfkcímer"/>
          <p:cNvPicPr/>
          <p:nvPr/>
        </p:nvPicPr>
        <p:blipFill>
          <a:blip r:embed="rId1"/>
          <a:stretch/>
        </p:blipFill>
        <p:spPr>
          <a:xfrm>
            <a:off x="1890720" y="1290600"/>
            <a:ext cx="5348160" cy="5562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paragrafus"/>
          <p:cNvPicPr/>
          <p:nvPr/>
        </p:nvPicPr>
        <p:blipFill>
          <a:blip r:embed="rId2"/>
          <a:stretch/>
        </p:blipFill>
        <p:spPr>
          <a:xfrm>
            <a:off x="7553160" y="4267080"/>
            <a:ext cx="1209960" cy="2514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ndikátor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hu_címer"/>
          <p:cNvPicPr/>
          <p:nvPr/>
        </p:nvPicPr>
        <p:blipFill>
          <a:blip r:embed="rId3"/>
          <a:stretch/>
        </p:blipFill>
        <p:spPr>
          <a:xfrm>
            <a:off x="220680" y="152280"/>
            <a:ext cx="617400" cy="762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címer_v"/>
          <p:cNvPicPr/>
          <p:nvPr/>
        </p:nvPicPr>
        <p:blipFill>
          <a:blip r:embed="rId4"/>
          <a:stretch/>
        </p:blipFill>
        <p:spPr>
          <a:xfrm>
            <a:off x="8302680" y="152280"/>
            <a:ext cx="635040" cy="762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paragrafus"/>
          <p:cNvPicPr/>
          <p:nvPr/>
        </p:nvPicPr>
        <p:blipFill>
          <a:blip r:embed="rId5"/>
          <a:stretch/>
        </p:blipFill>
        <p:spPr>
          <a:xfrm>
            <a:off x="7629480" y="990720"/>
            <a:ext cx="1209600" cy="25146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9"/>
          <p:cNvSpPr/>
          <p:nvPr/>
        </p:nvSpPr>
        <p:spPr>
          <a:xfrm>
            <a:off x="900000" y="1268280"/>
            <a:ext cx="7417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ockázatokra utaló jel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bűncselekmény típusa, motivációja, beleértve az áldozat személyes jellemzői miatti hátrányos megkülönböztetést vagy előítéletet (pl. gyűlölet-bűncselekmény, fogyatékossággal élő áldoza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bűncselekmény körülmény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bűncselekmény súlyossága, melynek folytán a sértett jelentős sérelmet szenvedett (pl. emberkereskedelem, terrorizmus, szervezett bűnöz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áldozat és az elkövető közötti bármilyen olyan kapcsolat, amely az áldozatot különösen sebezhetővé teszi (különös figyelemmel nemi erkölcsi elleni vagy a közeli hozzátartozók közötti erőszakra, és a szexuális erőszak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B178-3868-4E02-BD1F-60A7AB79E7B4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orfkcímer"/>
          <p:cNvPicPr/>
          <p:nvPr/>
        </p:nvPicPr>
        <p:blipFill>
          <a:blip r:embed="rId1"/>
          <a:stretch/>
        </p:blipFill>
        <p:spPr>
          <a:xfrm>
            <a:off x="1890720" y="1290600"/>
            <a:ext cx="5348160" cy="556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paragrafus"/>
          <p:cNvPicPr/>
          <p:nvPr/>
        </p:nvPicPr>
        <p:blipFill>
          <a:blip r:embed="rId2"/>
          <a:stretch/>
        </p:blipFill>
        <p:spPr>
          <a:xfrm>
            <a:off x="7553160" y="4267080"/>
            <a:ext cx="1209960" cy="25146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Legfőbb Ügyészi rendel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hu_címer"/>
          <p:cNvPicPr/>
          <p:nvPr/>
        </p:nvPicPr>
        <p:blipFill>
          <a:blip r:embed="rId3"/>
          <a:stretch/>
        </p:blipFill>
        <p:spPr>
          <a:xfrm>
            <a:off x="220680" y="152280"/>
            <a:ext cx="617400" cy="762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ímer_v"/>
          <p:cNvPicPr/>
          <p:nvPr/>
        </p:nvPicPr>
        <p:blipFill>
          <a:blip r:embed="rId4"/>
          <a:stretch/>
        </p:blipFill>
        <p:spPr>
          <a:xfrm>
            <a:off x="8302680" y="152280"/>
            <a:ext cx="635040" cy="762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paragrafus"/>
          <p:cNvPicPr/>
          <p:nvPr/>
        </p:nvPicPr>
        <p:blipFill>
          <a:blip r:embed="rId5"/>
          <a:stretch/>
        </p:blipFill>
        <p:spPr>
          <a:xfrm>
            <a:off x="7629480" y="990720"/>
            <a:ext cx="1209600" cy="25146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9"/>
          <p:cNvSpPr/>
          <p:nvPr/>
        </p:nvSpPr>
        <p:spPr>
          <a:xfrm>
            <a:off x="900000" y="1268280"/>
            <a:ext cx="7417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 szerint ilyen személynek tekinthető 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bűnszervezetben elkövetett bűncselekmény sértettj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kinek sérelmére hozzátartozója követett el bűncselekmény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érelmére elkövetett bűncselekmény miatt ellenségessé váló lakókörnyezetben élő sértet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hallássérült, a siketvak, vak, beszédképtelen, kóros elmeállapotú sértet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élet, a testi épség és az egészség elleni bűncselekmények (Btk. XV. fejez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nemi élet szabadsága és a nemi erkölcs elleni bűncselekmények (Btk. XIX. fejezet) sértettje, valam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apcsolati erőszak (Btk. 212/A. §), a családi jogállás megsértése (Btk. 213. §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ia számának hely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5125-9F62-4FDE-B336-53D78D1DE440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orfkcímer"/>
          <p:cNvPicPr/>
          <p:nvPr/>
        </p:nvPicPr>
        <p:blipFill>
          <a:blip r:embed="rId1"/>
          <a:stretch/>
        </p:blipFill>
        <p:spPr>
          <a:xfrm>
            <a:off x="1890720" y="1290600"/>
            <a:ext cx="5348160" cy="5562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paragrafus"/>
          <p:cNvPicPr/>
          <p:nvPr/>
        </p:nvPicPr>
        <p:blipFill>
          <a:blip r:embed="rId2"/>
          <a:stretch/>
        </p:blipFill>
        <p:spPr>
          <a:xfrm>
            <a:off x="7553160" y="4267080"/>
            <a:ext cx="1209960" cy="25146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532720" cy="761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Teendők a különleges bánásmódot igénylő sértet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hu_címer"/>
          <p:cNvPicPr/>
          <p:nvPr/>
        </p:nvPicPr>
        <p:blipFill>
          <a:blip r:embed="rId3"/>
          <a:stretch/>
        </p:blipFill>
        <p:spPr>
          <a:xfrm>
            <a:off x="324000" y="189000"/>
            <a:ext cx="617400" cy="761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címer_v"/>
          <p:cNvPicPr/>
          <p:nvPr/>
        </p:nvPicPr>
        <p:blipFill>
          <a:blip r:embed="rId4"/>
          <a:stretch/>
        </p:blipFill>
        <p:spPr>
          <a:xfrm>
            <a:off x="8302680" y="152280"/>
            <a:ext cx="635040" cy="762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paragrafus"/>
          <p:cNvPicPr/>
          <p:nvPr/>
        </p:nvPicPr>
        <p:blipFill>
          <a:blip r:embed="rId5"/>
          <a:stretch/>
        </p:blipFill>
        <p:spPr>
          <a:xfrm>
            <a:off x="7629480" y="990720"/>
            <a:ext cx="1209600" cy="25146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8"/>
          <p:cNvSpPr/>
          <p:nvPr/>
        </p:nvSpPr>
        <p:spPr>
          <a:xfrm>
            <a:off x="611280" y="950760"/>
            <a:ext cx="882000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60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684360" y="950760"/>
            <a:ext cx="828036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értettre vonatkozó különös rendelkezések”  Be. 62 B. és 62. C § alapjá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igyelemmel kell lenni arra, hogy a sértett és a terhelt szükségtelenü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 találkozzon egymáss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pld. idézés más helyiségbe, időpontra, szembesít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olyan eljárási cselekményeknél, ahol sértett jelenléte kötelező, úgy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ell előkészíteni és végrehajtani, hogy lehetőség szerint n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smétlődjö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yomozó hatóságnak az eljárás során sértett lehető legnagyob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íméletével kell eljár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14. életév alatti kihallgatása kép- vagy hangfelvevővel, zártcél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ávközlő útján történő kihallgatás, e célra kialakított helyisé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 sértettet érintő eljárási cselekményeket, ha az eljárás érdekeit n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érti, a sértett kíméletével, lehetőség szerint az igényeinek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igyelembevételével kell előkészíteni és végrehajtan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pld. sértett jelenléte kötelező, ismétlésre ne kerüljön sor, va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rtesítést küld és a sértett saját felelősségre dö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értetti minőség megállapításának kezdeményezésével, kapcsol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ratokat, a nyomozó hatóság az iratok között elkülönítve, zár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ezel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ia számának hely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412A-14D3-4870-BBD2-A3DFB41A3925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orfkcímer"/>
          <p:cNvPicPr/>
          <p:nvPr/>
        </p:nvPicPr>
        <p:blipFill>
          <a:blip r:embed="rId1"/>
          <a:stretch/>
        </p:blipFill>
        <p:spPr>
          <a:xfrm>
            <a:off x="1890720" y="1290600"/>
            <a:ext cx="5348160" cy="5562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paragrafus"/>
          <p:cNvPicPr/>
          <p:nvPr/>
        </p:nvPicPr>
        <p:blipFill>
          <a:blip r:embed="rId2"/>
          <a:stretch/>
        </p:blipFill>
        <p:spPr>
          <a:xfrm>
            <a:off x="7553160" y="4267080"/>
            <a:ext cx="1209960" cy="2514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Zártan keze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hu_címer"/>
          <p:cNvPicPr/>
          <p:nvPr/>
        </p:nvPicPr>
        <p:blipFill>
          <a:blip r:embed="rId3"/>
          <a:stretch/>
        </p:blipFill>
        <p:spPr>
          <a:xfrm>
            <a:off x="220680" y="152280"/>
            <a:ext cx="617400" cy="762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címer_v"/>
          <p:cNvPicPr/>
          <p:nvPr/>
        </p:nvPicPr>
        <p:blipFill>
          <a:blip r:embed="rId4"/>
          <a:stretch/>
        </p:blipFill>
        <p:spPr>
          <a:xfrm>
            <a:off x="8302680" y="152280"/>
            <a:ext cx="635040" cy="762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paragrafus"/>
          <p:cNvPicPr/>
          <p:nvPr/>
        </p:nvPicPr>
        <p:blipFill>
          <a:blip r:embed="rId5"/>
          <a:stretch/>
        </p:blipFill>
        <p:spPr>
          <a:xfrm>
            <a:off x="7629480" y="990720"/>
            <a:ext cx="1209600" cy="25146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9"/>
          <p:cNvSpPr/>
          <p:nvPr/>
        </p:nvSpPr>
        <p:spPr>
          <a:xfrm>
            <a:off x="838080" y="189864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e. 62/C. § (5)és BM rendelet 3. § (2) bekezdés előír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ülönleges bánásmód megalapozásának jogalapját véd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yermekvédelmi jelzőren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ldozatvédelmi referens szintén a nyomozó hatóság ügyben eljáró tagjának kell tekinteni, ha az adott büntetőeljárás során feladat- és hatáskörébe tartozó, az áldozatok védelmét igénylő intézkedési kötelezettség szüksége merül f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obotzsaru Neo ren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ia számának hely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29E2-B097-4D36-B5AB-0789AB82D544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orfkcímer"/>
          <p:cNvPicPr/>
          <p:nvPr/>
        </p:nvPicPr>
        <p:blipFill>
          <a:blip r:embed="rId1"/>
          <a:stretch/>
        </p:blipFill>
        <p:spPr>
          <a:xfrm>
            <a:off x="1890720" y="1290600"/>
            <a:ext cx="5348160" cy="5562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paragrafus"/>
          <p:cNvPicPr/>
          <p:nvPr/>
        </p:nvPicPr>
        <p:blipFill>
          <a:blip r:embed="rId2"/>
          <a:stretch/>
        </p:blipFill>
        <p:spPr>
          <a:xfrm>
            <a:off x="7553160" y="4267080"/>
            <a:ext cx="1209960" cy="25146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Teendők a különleges bánásmódot igénylő sértet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hu_címer"/>
          <p:cNvPicPr/>
          <p:nvPr/>
        </p:nvPicPr>
        <p:blipFill>
          <a:blip r:embed="rId3"/>
          <a:stretch/>
        </p:blipFill>
        <p:spPr>
          <a:xfrm>
            <a:off x="220680" y="152280"/>
            <a:ext cx="617400" cy="762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címer_v"/>
          <p:cNvPicPr/>
          <p:nvPr/>
        </p:nvPicPr>
        <p:blipFill>
          <a:blip r:embed="rId4"/>
          <a:stretch/>
        </p:blipFill>
        <p:spPr>
          <a:xfrm>
            <a:off x="8302680" y="152280"/>
            <a:ext cx="635040" cy="762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paragrafus"/>
          <p:cNvPicPr/>
          <p:nvPr/>
        </p:nvPicPr>
        <p:blipFill>
          <a:blip r:embed="rId5"/>
          <a:stretch/>
        </p:blipFill>
        <p:spPr>
          <a:xfrm>
            <a:off x="7629480" y="990720"/>
            <a:ext cx="1209600" cy="25146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9"/>
          <p:cNvSpPr/>
          <p:nvPr/>
        </p:nvSpPr>
        <p:spPr>
          <a:xfrm>
            <a:off x="971640" y="119700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468360" y="2060640"/>
            <a:ext cx="8136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értett kíméletének biztosítására alkalmas további lehetőség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írásbeli vallomástétel lehetőségének biztosítása (Be. 85. § (5) bek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tanúvédelem intézményrendszere (Be. VII. fejezet, III. Cí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embesítés mellőzésének lehetősége (Be. 124. § (2) bekezd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feljelentő tanúkénti kihallgatásának mellőzése (Be. 181. § (3) bekezd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értesítés mellőzése az eljárási cselekményekről (185. §. (1) bekezd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ia számának hely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5D1A-0B64-4D6A-9079-A186C59B9FCE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orfkcímer"/>
          <p:cNvPicPr/>
          <p:nvPr/>
        </p:nvPicPr>
        <p:blipFill>
          <a:blip r:embed="rId1"/>
          <a:stretch/>
        </p:blipFill>
        <p:spPr>
          <a:xfrm>
            <a:off x="1890720" y="1290600"/>
            <a:ext cx="5348160" cy="5562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paragrafus"/>
          <p:cNvPicPr/>
          <p:nvPr/>
        </p:nvPicPr>
        <p:blipFill>
          <a:blip r:embed="rId2"/>
          <a:stretch/>
        </p:blipFill>
        <p:spPr>
          <a:xfrm>
            <a:off x="7553160" y="4267080"/>
            <a:ext cx="1209960" cy="25146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Panaszj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hu_címer"/>
          <p:cNvPicPr/>
          <p:nvPr/>
        </p:nvPicPr>
        <p:blipFill>
          <a:blip r:embed="rId3"/>
          <a:stretch/>
        </p:blipFill>
        <p:spPr>
          <a:xfrm>
            <a:off x="220680" y="152280"/>
            <a:ext cx="617400" cy="762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címer_v"/>
          <p:cNvPicPr/>
          <p:nvPr/>
        </p:nvPicPr>
        <p:blipFill>
          <a:blip r:embed="rId4"/>
          <a:stretch/>
        </p:blipFill>
        <p:spPr>
          <a:xfrm>
            <a:off x="8302680" y="152280"/>
            <a:ext cx="635040" cy="762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paragrafus"/>
          <p:cNvPicPr/>
          <p:nvPr/>
        </p:nvPicPr>
        <p:blipFill>
          <a:blip r:embed="rId5"/>
          <a:stretch/>
        </p:blipFill>
        <p:spPr>
          <a:xfrm>
            <a:off x="7629480" y="990720"/>
            <a:ext cx="1209600" cy="25146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8"/>
          <p:cNvSpPr/>
          <p:nvPr/>
        </p:nvSpPr>
        <p:spPr>
          <a:xfrm>
            <a:off x="971640" y="119700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50920" y="148428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900000" y="2097720"/>
            <a:ext cx="720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bban az esetben ha egy sértett kifogásolja, hogy az eljáró hatóság nem alkalmazta a különleges bánásmódot igénylő sértettek számára biztosított jogintézményeket, nem vette figyelembe személyes szükségleteit, akkor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Be. 196. §-a alapján panasszal élh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ia számának hely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65FB-ED33-42E5-922F-085F7743B222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orfkcímer"/>
          <p:cNvPicPr/>
          <p:nvPr/>
        </p:nvPicPr>
        <p:blipFill>
          <a:blip r:embed="rId1"/>
          <a:stretch/>
        </p:blipFill>
        <p:spPr>
          <a:xfrm>
            <a:off x="3780000" y="5373720"/>
            <a:ext cx="5113080" cy="1484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paragrafus"/>
          <p:cNvPicPr/>
          <p:nvPr/>
        </p:nvPicPr>
        <p:blipFill>
          <a:blip r:embed="rId2"/>
          <a:stretch/>
        </p:blipFill>
        <p:spPr>
          <a:xfrm>
            <a:off x="7553160" y="4267080"/>
            <a:ext cx="1209960" cy="25146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öszönöm a megtisztelő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hu_címer"/>
          <p:cNvPicPr/>
          <p:nvPr/>
        </p:nvPicPr>
        <p:blipFill>
          <a:blip r:embed="rId3"/>
          <a:stretch/>
        </p:blipFill>
        <p:spPr>
          <a:xfrm>
            <a:off x="220680" y="152280"/>
            <a:ext cx="617400" cy="762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címer_v"/>
          <p:cNvPicPr/>
          <p:nvPr/>
        </p:nvPicPr>
        <p:blipFill>
          <a:blip r:embed="rId4"/>
          <a:stretch/>
        </p:blipFill>
        <p:spPr>
          <a:xfrm>
            <a:off x="8302680" y="152280"/>
            <a:ext cx="635040" cy="762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paragrafus"/>
          <p:cNvPicPr/>
          <p:nvPr/>
        </p:nvPicPr>
        <p:blipFill>
          <a:blip r:embed="rId5"/>
          <a:stretch/>
        </p:blipFill>
        <p:spPr>
          <a:xfrm>
            <a:off x="7596360" y="981000"/>
            <a:ext cx="1209600" cy="25146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8"/>
          <p:cNvSpPr/>
          <p:nvPr/>
        </p:nvSpPr>
        <p:spPr>
          <a:xfrm>
            <a:off x="395280" y="11970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2484360" y="3368520"/>
            <a:ext cx="6145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arabás Ildikó c. r. alezr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RFK Bűnügyi Főigazgatósá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űnügyi Főosztá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űnmegelőzési Osztá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barabasi@orfk.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olice.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el: 33-07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obil+36/20-451-05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BBF2-C9AD-428B-9CAC-04A7057C0005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orfkcímer"/>
          <p:cNvPicPr/>
          <p:nvPr/>
        </p:nvPicPr>
        <p:blipFill>
          <a:blip r:embed="rId1"/>
          <a:stretch/>
        </p:blipFill>
        <p:spPr>
          <a:xfrm>
            <a:off x="1890720" y="1290600"/>
            <a:ext cx="5348160" cy="5562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1360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hu-HU" sz="2400" spc="-1" strike="noStrike">
                <a:solidFill>
                  <a:srgbClr val="000066"/>
                </a:solidFill>
                <a:latin typeface="Arial"/>
              </a:rPr>
              <a:t> „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Ha a társadalom nem tudja megvédeni egyes állampolgárait attól, hogy bűncselekmények áldozataivá váljanak, akkor legalább, ha bajba kerültek, próbáljunk meg rajtuk segíteni.”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hu_címer"/>
          <p:cNvPicPr/>
          <p:nvPr/>
        </p:nvPicPr>
        <p:blipFill>
          <a:blip r:embed="rId2"/>
          <a:stretch/>
        </p:blipFill>
        <p:spPr>
          <a:xfrm>
            <a:off x="220680" y="152280"/>
            <a:ext cx="61740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címer_v"/>
          <p:cNvPicPr/>
          <p:nvPr/>
        </p:nvPicPr>
        <p:blipFill>
          <a:blip r:embed="rId3"/>
          <a:stretch/>
        </p:blipFill>
        <p:spPr>
          <a:xfrm>
            <a:off x="8302680" y="152280"/>
            <a:ext cx="635040" cy="76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paragrafus"/>
          <p:cNvPicPr/>
          <p:nvPr/>
        </p:nvPicPr>
        <p:blipFill>
          <a:blip r:embed="rId4"/>
          <a:stretch/>
        </p:blipFill>
        <p:spPr>
          <a:xfrm>
            <a:off x="7451640" y="2781360"/>
            <a:ext cx="1209600" cy="2514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395280" y="3141720"/>
            <a:ext cx="8313840" cy="31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9" descr="idősek tájékoztatása"/>
          <p:cNvPicPr/>
          <p:nvPr/>
        </p:nvPicPr>
        <p:blipFill>
          <a:blip r:embed="rId5"/>
          <a:stretch/>
        </p:blipFill>
        <p:spPr>
          <a:xfrm>
            <a:off x="2556000" y="3068640"/>
            <a:ext cx="324000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06EE-5F40-4F9C-A9CE-9172D9F7B8DF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orfkcímer"/>
          <p:cNvPicPr/>
          <p:nvPr/>
        </p:nvPicPr>
        <p:blipFill>
          <a:blip r:embed="rId1"/>
          <a:stretch/>
        </p:blipFill>
        <p:spPr>
          <a:xfrm>
            <a:off x="1890720" y="1290600"/>
            <a:ext cx="5348160" cy="5562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1360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hu_címer"/>
          <p:cNvPicPr/>
          <p:nvPr/>
        </p:nvPicPr>
        <p:blipFill>
          <a:blip r:embed="rId2"/>
          <a:stretch/>
        </p:blipFill>
        <p:spPr>
          <a:xfrm>
            <a:off x="220680" y="152280"/>
            <a:ext cx="617400" cy="762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ímer_v"/>
          <p:cNvPicPr/>
          <p:nvPr/>
        </p:nvPicPr>
        <p:blipFill>
          <a:blip r:embed="rId3"/>
          <a:stretch/>
        </p:blipFill>
        <p:spPr>
          <a:xfrm>
            <a:off x="8302680" y="152280"/>
            <a:ext cx="635040" cy="762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paragrafus"/>
          <p:cNvPicPr/>
          <p:nvPr/>
        </p:nvPicPr>
        <p:blipFill>
          <a:blip r:embed="rId4"/>
          <a:stretch/>
        </p:blipFill>
        <p:spPr>
          <a:xfrm>
            <a:off x="7451640" y="2781360"/>
            <a:ext cx="1209600" cy="2514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395280" y="3141720"/>
            <a:ext cx="8313840" cy="31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comic"/>
              </a:rPr>
              <a:t>A különleges bánásmódot igénylő sérte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ia számának hely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E22E-BDFD-4915-AA40-F8D1E86BFC8B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orfkcímer"/>
          <p:cNvPicPr/>
          <p:nvPr/>
        </p:nvPicPr>
        <p:blipFill>
          <a:blip r:embed="rId1"/>
          <a:stretch/>
        </p:blipFill>
        <p:spPr>
          <a:xfrm>
            <a:off x="1890720" y="1290600"/>
            <a:ext cx="5348160" cy="5562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paragrafus"/>
          <p:cNvPicPr/>
          <p:nvPr/>
        </p:nvPicPr>
        <p:blipFill>
          <a:blip r:embed="rId2"/>
          <a:stretch/>
        </p:blipFill>
        <p:spPr>
          <a:xfrm>
            <a:off x="7553160" y="4267080"/>
            <a:ext cx="120996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111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  <a:ea typeface="Arial"/>
              </a:rPr>
              <a:t>Áldozat védelmét szolgáló jogok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2012/29/EU irányelvben</a:t>
            </a: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hu_címer"/>
          <p:cNvPicPr/>
          <p:nvPr/>
        </p:nvPicPr>
        <p:blipFill>
          <a:blip r:embed="rId3"/>
          <a:stretch/>
        </p:blipFill>
        <p:spPr>
          <a:xfrm>
            <a:off x="220680" y="152280"/>
            <a:ext cx="617400" cy="762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ímer_v"/>
          <p:cNvPicPr/>
          <p:nvPr/>
        </p:nvPicPr>
        <p:blipFill>
          <a:blip r:embed="rId4"/>
          <a:stretch/>
        </p:blipFill>
        <p:spPr>
          <a:xfrm>
            <a:off x="8302680" y="152280"/>
            <a:ext cx="635040" cy="762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paragrafus"/>
          <p:cNvPicPr/>
          <p:nvPr/>
        </p:nvPicPr>
        <p:blipFill>
          <a:blip r:embed="rId5"/>
          <a:stretch/>
        </p:blipFill>
        <p:spPr>
          <a:xfrm>
            <a:off x="7629480" y="990720"/>
            <a:ext cx="1209600" cy="25146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971640" y="119700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220680" y="1517760"/>
            <a:ext cx="8420040" cy="56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ésedelem nélküli kihallgatáshoz való j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ihallgatások számának minimalizálásához való j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jogi képviselőhöz és támogató személyhez való j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rvosi vizsgálatok számának minimalizálásához való j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agánélet védelméhez való j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peciális védelmi szükségletet mi d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önti 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ldozat életk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ldozat vélemény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űncselekmény típ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ldozat egyéni jellemző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specifikus védelmi szükségletű áldozatok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jogai a nyomozás sor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hallgatás erre a célra átalakított helyiségben, erre kiképzett szakemberek révén  ugyanazon személy által, aki az áldozattal azonos nem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specifikus védelmi szükségletű áldozatok jogai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a bírósági tárgyalás sor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ldozat és elkövető közti vizuális kapcsolat elkerül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ldozat személyes jelenlét nélküli meghallga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ükségtelen kérdések mellőz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yilvánosság kizárása a tárgyalásró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ia számának hely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9F32-F0F0-40DC-B81C-F3E36222AA0A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orfkcímer"/>
          <p:cNvPicPr/>
          <p:nvPr/>
        </p:nvPicPr>
        <p:blipFill>
          <a:blip r:embed="rId1"/>
          <a:stretch/>
        </p:blipFill>
        <p:spPr>
          <a:xfrm>
            <a:off x="1890720" y="1290600"/>
            <a:ext cx="5348160" cy="5562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paragrafus"/>
          <p:cNvPicPr/>
          <p:nvPr/>
        </p:nvPicPr>
        <p:blipFill>
          <a:blip r:embed="rId2"/>
          <a:stretch/>
        </p:blipFill>
        <p:spPr>
          <a:xfrm>
            <a:off x="7553160" y="4267080"/>
            <a:ext cx="1209960" cy="2514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  <a:ea typeface="Arial"/>
              </a:rPr>
              <a:t>Sértett jogai a Büntető Eljárás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hu_címer"/>
          <p:cNvPicPr/>
          <p:nvPr/>
        </p:nvPicPr>
        <p:blipFill>
          <a:blip r:embed="rId3"/>
          <a:stretch/>
        </p:blipFill>
        <p:spPr>
          <a:xfrm>
            <a:off x="220680" y="152280"/>
            <a:ext cx="617400" cy="762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címer_v"/>
          <p:cNvPicPr/>
          <p:nvPr/>
        </p:nvPicPr>
        <p:blipFill>
          <a:blip r:embed="rId4"/>
          <a:stretch/>
        </p:blipFill>
        <p:spPr>
          <a:xfrm>
            <a:off x="8302680" y="152280"/>
            <a:ext cx="635040" cy="762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paragrafus"/>
          <p:cNvPicPr/>
          <p:nvPr/>
        </p:nvPicPr>
        <p:blipFill>
          <a:blip r:embed="rId5"/>
          <a:stretch/>
        </p:blipFill>
        <p:spPr>
          <a:xfrm>
            <a:off x="7629480" y="990720"/>
            <a:ext cx="1209600" cy="2514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971640" y="119700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179280" y="1557360"/>
            <a:ext cx="871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értettek a feljelentés megtételekor, szóban és írásban is tájékoztatást kapnak jogaikról, kötelességeikről, lehetőségeikről, a nyomozási munka folyamatáról, annak befejezésérő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ztosítva van az iratmegismerés, a felvilágosítás kérés, a polgári jogi igény előterjesztésének lehetősége, valamint az indítvány, észrevételtétel és a jogorvoslat lehetősége, az anyanyelv használatának jog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nyomozás befejeztével az őket érintő iratokba betekinthetnek, a bűnügyi iratokból jogszabály által meghatározott mértékben másolatot kérhetne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heti adatai nyílt vagy zártan történő kezelésé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rdekeinek védelmében védő járhat 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hallgatás kultúrált körülmények között, empátiával, humánusan, személyiségi jogok tiszteletben tartásával (másodlagos áld. válás megelőzé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yermekek meghallgatás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elyiségben csak azon személyek tartózkodnak, akiknek jelenlétét a jogszabályok lehetővé teszik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nyilvánosságra hozott információk ne sértsék az áldozatok és a hozzátartozóik magánéletét, emberi méltóságát, adatvédelmi, személyiségi jogai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CE1C-AE5F-436A-8DC0-63773405829B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orfkcímer"/>
          <p:cNvPicPr/>
          <p:nvPr/>
        </p:nvPicPr>
        <p:blipFill>
          <a:blip r:embed="rId1"/>
          <a:stretch/>
        </p:blipFill>
        <p:spPr>
          <a:xfrm>
            <a:off x="1890720" y="1290600"/>
            <a:ext cx="5348160" cy="5562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paragrafus"/>
          <p:cNvPicPr/>
          <p:nvPr/>
        </p:nvPicPr>
        <p:blipFill>
          <a:blip r:embed="rId2"/>
          <a:stretch/>
        </p:blipFill>
        <p:spPr>
          <a:xfrm>
            <a:off x="7553160" y="4267080"/>
            <a:ext cx="120996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  <a:ea typeface="Arial"/>
              </a:rPr>
              <a:t>A rendőrség áldozatsegítő felada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hu_címer"/>
          <p:cNvPicPr/>
          <p:nvPr/>
        </p:nvPicPr>
        <p:blipFill>
          <a:blip r:embed="rId3"/>
          <a:stretch/>
        </p:blipFill>
        <p:spPr>
          <a:xfrm>
            <a:off x="220680" y="152280"/>
            <a:ext cx="617400" cy="762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ímer_v"/>
          <p:cNvPicPr/>
          <p:nvPr/>
        </p:nvPicPr>
        <p:blipFill>
          <a:blip r:embed="rId4"/>
          <a:stretch/>
        </p:blipFill>
        <p:spPr>
          <a:xfrm>
            <a:off x="8302680" y="152280"/>
            <a:ext cx="635040" cy="762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paragrafus"/>
          <p:cNvPicPr/>
          <p:nvPr/>
        </p:nvPicPr>
        <p:blipFill>
          <a:blip r:embed="rId5"/>
          <a:stretch/>
        </p:blipFill>
        <p:spPr>
          <a:xfrm>
            <a:off x="7629480" y="990720"/>
            <a:ext cx="1209600" cy="2514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971640" y="119700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179280" y="155736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ájékoztató átadása a sértettn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óbeli figyelemfelhív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gazolás kiállítás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egítő szervezetek irányába való közvetítés,  tájékoztatás az állami és civil áldozatsegítő szolgáltatásokról, azok elérhetőségérő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szóróanyagok"/>
          <p:cNvPicPr/>
          <p:nvPr/>
        </p:nvPicPr>
        <p:blipFill>
          <a:blip r:embed="rId6"/>
          <a:stretch/>
        </p:blipFill>
        <p:spPr>
          <a:xfrm>
            <a:off x="4643280" y="4724280"/>
            <a:ext cx="2514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ia számának hely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EB63-9899-4952-8978-54058C5422C1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orfkcímer"/>
          <p:cNvPicPr/>
          <p:nvPr/>
        </p:nvPicPr>
        <p:blipFill>
          <a:blip r:embed="rId1"/>
          <a:stretch/>
        </p:blipFill>
        <p:spPr>
          <a:xfrm>
            <a:off x="1890720" y="1290600"/>
            <a:ext cx="5348160" cy="5562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paragrafus"/>
          <p:cNvPicPr/>
          <p:nvPr/>
        </p:nvPicPr>
        <p:blipFill>
          <a:blip r:embed="rId2"/>
          <a:stretch/>
        </p:blipFill>
        <p:spPr>
          <a:xfrm>
            <a:off x="7553160" y="4267080"/>
            <a:ext cx="1209960" cy="2514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rendőrség áldozatsegítő feladatairól szóló 64/2015. BM rende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hu_címer"/>
          <p:cNvPicPr/>
          <p:nvPr/>
        </p:nvPicPr>
        <p:blipFill>
          <a:blip r:embed="rId3"/>
          <a:stretch/>
        </p:blipFill>
        <p:spPr>
          <a:xfrm>
            <a:off x="220680" y="152280"/>
            <a:ext cx="617400" cy="762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címer_v"/>
          <p:cNvPicPr/>
          <p:nvPr/>
        </p:nvPicPr>
        <p:blipFill>
          <a:blip r:embed="rId4"/>
          <a:stretch/>
        </p:blipFill>
        <p:spPr>
          <a:xfrm>
            <a:off x="8302680" y="152280"/>
            <a:ext cx="635040" cy="762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paragrafus"/>
          <p:cNvPicPr/>
          <p:nvPr/>
        </p:nvPicPr>
        <p:blipFill>
          <a:blip r:embed="rId5"/>
          <a:stretch/>
        </p:blipFill>
        <p:spPr>
          <a:xfrm>
            <a:off x="7629480" y="990720"/>
            <a:ext cx="1209600" cy="25146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193680" y="1341360"/>
            <a:ext cx="8569440" cy="64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büntetőeljárásról szóló 1998. évi XIX. örvény (a továbbiakban: Be.) 62/C. § bevezette a különleges bánásmódot igénylő sértett fogalmá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920" indent="-277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920" indent="-277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M rendelet célja: megvédjék a sértetteket „a másodlagos és ismételt áldozattá válással, a megfélemlítéssel, valamint a megtorlással szemben, ideértve az áldozatok érzelmi vagy pszichés károsodásával szembeni védelmét, valamint méltóságuk megóvását a kihallgatásuk és vallomástételük során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920" indent="-2779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értett a személyiségét és életviszonyait jellemző tényekre és körülmények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920" indent="-2779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bűncselekmény jellegére vagy ez elkövetés körülményeire tekintettel a meghatározó, hogy az be. során sajátos szükségletekkel rendelkezi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920" indent="-2779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.b.i. sértett fogalmának bevezetésével a cél nem az volt, hogy e személyek a kevésbé sérülékeny sértettekhez képest rendelkezzenek többletjogosítványokkal, hanem hatóságok számára írnak elő többletkötelezettsége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920" indent="-277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920" indent="-277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920" indent="-277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920" indent="-277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43B3-9783-4ADF-9015-5D2E4E32F7E2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paragrafus"/>
          <p:cNvPicPr/>
          <p:nvPr/>
        </p:nvPicPr>
        <p:blipFill>
          <a:blip r:embed="rId1"/>
          <a:stretch/>
        </p:blipFill>
        <p:spPr>
          <a:xfrm>
            <a:off x="7629480" y="990720"/>
            <a:ext cx="1209600" cy="2514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orfkcímer"/>
          <p:cNvPicPr/>
          <p:nvPr/>
        </p:nvPicPr>
        <p:blipFill>
          <a:blip r:embed="rId2"/>
          <a:stretch/>
        </p:blipFill>
        <p:spPr>
          <a:xfrm>
            <a:off x="1890720" y="1290600"/>
            <a:ext cx="5348160" cy="5562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paragrafus"/>
          <p:cNvPicPr/>
          <p:nvPr/>
        </p:nvPicPr>
        <p:blipFill>
          <a:blip r:embed="rId3"/>
          <a:stretch/>
        </p:blipFill>
        <p:spPr>
          <a:xfrm>
            <a:off x="7553160" y="4267080"/>
            <a:ext cx="1209960" cy="25146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33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datlap a sértett egyéni értékeléséh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hu_címer"/>
          <p:cNvPicPr/>
          <p:nvPr/>
        </p:nvPicPr>
        <p:blipFill>
          <a:blip r:embed="rId4"/>
          <a:stretch/>
        </p:blipFill>
        <p:spPr>
          <a:xfrm>
            <a:off x="220680" y="152280"/>
            <a:ext cx="617400" cy="762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ímer_v"/>
          <p:cNvPicPr/>
          <p:nvPr/>
        </p:nvPicPr>
        <p:blipFill>
          <a:blip r:embed="rId5"/>
          <a:stretch/>
        </p:blipFill>
        <p:spPr>
          <a:xfrm>
            <a:off x="8302680" y="152280"/>
            <a:ext cx="635040" cy="7621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324000" y="134136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4000" y="1267920"/>
            <a:ext cx="8362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468360" y="762120"/>
            <a:ext cx="795636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inden esetben kötelező a sértett  egyéni értékel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 a feljelentést a sértett tes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értettet első alkalommal tanúként kihallgat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ontos: Az egyéni értékelés szükség szerint ismételhető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nyomozó hatóság az eljárás során folyamatosan vizsgálja,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ogy a különleges bánásmódot igénylő sértetti minőség fenn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áll-e, ha nem az adatlapon jelz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m kell határozatot hozni!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7BC2-E122-4956-BAE2-20AC1C49F52E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paragrafus"/>
          <p:cNvPicPr/>
          <p:nvPr/>
        </p:nvPicPr>
        <p:blipFill>
          <a:blip r:embed="rId1"/>
          <a:stretch/>
        </p:blipFill>
        <p:spPr>
          <a:xfrm>
            <a:off x="7631280" y="990720"/>
            <a:ext cx="1207800" cy="2509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orfkcímer"/>
          <p:cNvPicPr/>
          <p:nvPr/>
        </p:nvPicPr>
        <p:blipFill>
          <a:blip r:embed="rId2"/>
          <a:stretch/>
        </p:blipFill>
        <p:spPr>
          <a:xfrm>
            <a:off x="1890720" y="1290600"/>
            <a:ext cx="5348160" cy="5562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paragrafus"/>
          <p:cNvPicPr/>
          <p:nvPr/>
        </p:nvPicPr>
        <p:blipFill>
          <a:blip r:embed="rId3"/>
          <a:stretch/>
        </p:blipFill>
        <p:spPr>
          <a:xfrm>
            <a:off x="7553160" y="4267080"/>
            <a:ext cx="1209960" cy="25146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33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datlap a sértett egyéni értékeléséh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hu_címer"/>
          <p:cNvPicPr/>
          <p:nvPr/>
        </p:nvPicPr>
        <p:blipFill>
          <a:blip r:embed="rId4"/>
          <a:stretch/>
        </p:blipFill>
        <p:spPr>
          <a:xfrm>
            <a:off x="220680" y="152280"/>
            <a:ext cx="617400" cy="762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címer_v"/>
          <p:cNvPicPr/>
          <p:nvPr/>
        </p:nvPicPr>
        <p:blipFill>
          <a:blip r:embed="rId5"/>
          <a:stretch/>
        </p:blipFill>
        <p:spPr>
          <a:xfrm>
            <a:off x="8302680" y="152280"/>
            <a:ext cx="635040" cy="762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324000" y="126792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étséget kizáróan megállapítsák, fennáll-e a másodlagos és ismételt áldozattá válá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értett (feljelentő) megfélemlítésének vagy vele szemben történő megtorlásnak a kockázat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ovábbá, hogy azonosítsa a sértett (feljelentő) támogatási és kommunikációs (nyelvi nehézségek, fogyatékossággal élő) szükséglete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3:47:41Z</dcterms:created>
  <dc:creator>nemetha</dc:creator>
  <dc:description/>
  <dc:language>en-US</dc:language>
  <cp:lastModifiedBy>Barabás Ildikó</cp:lastModifiedBy>
  <dcterms:modified xsi:type="dcterms:W3CDTF">2016-06-09T06:15:22Z</dcterms:modified>
  <cp:revision>191</cp:revision>
  <dc:subject/>
  <dc:title>The Police of the Republic of Hungary</dc:title>
</cp:coreProperties>
</file>